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10E-4055-402D-88DC-0CD72401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13F-4640-4628-9860-30D5C90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AD0-5927-46F5-875A-C8F8AD74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624-70EC-44D0-B835-6DB5E7D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D0B-1C24-4443-BA2A-8A821B7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A47-4D5E-4E16-8F12-28946381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89C-FBCB-493E-B816-40FF6F0A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666-EB86-42AF-877C-111E56F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C73-EEA1-4B7B-9263-178CF137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799-DE90-45F5-B125-D2175C7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854-C814-4928-9090-E286A96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253-8402-42F3-86B9-3AB6326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6ED-1E1C-4D5F-9B60-44F720B4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685800" y="-85716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>
            <a:off x="2743200" y="2819520"/>
            <a:ext cx="6094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801880" y="2971800"/>
            <a:ext cx="45720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2728800" y="3768840"/>
            <a:ext cx="1995480" cy="278424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2784240"/>
              <a:gd name="textAreaBottom" fmla="*/ 2784240 h 2784240"/>
            </a:gdLst>
            <a:ahLst/>
            <a:rect l="textAreaLeft" t="textAreaTop" r="textAreaRight" b="textAreaBottom"/>
            <a:pathLst>
              <a:path w="1257" h="1754">
                <a:moveTo>
                  <a:pt x="0" y="0"/>
                </a:moveTo>
                <a:lnTo>
                  <a:pt x="1257" y="1754"/>
                </a:lnTo>
              </a:path>
            </a:pathLst>
          </a:custGeom>
          <a:noFill/>
          <a:ln w="76320">
            <a:solidFill>
              <a:srgbClr val="66ff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 rot="3276600">
            <a:off x="3405240" y="4989240"/>
            <a:ext cx="67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2238480" y="1433520"/>
            <a:ext cx="2415960" cy="2819520"/>
          </a:xfrm>
          <a:custGeom>
            <a:avLst/>
            <a:gdLst>
              <a:gd name="textAreaLeft" fmla="*/ 0 w 2415960"/>
              <a:gd name="textAreaRight" fmla="*/ 2416320 w 241596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1522" h="1776">
                <a:moveTo>
                  <a:pt x="626" y="1381"/>
                </a:moveTo>
                <a:lnTo>
                  <a:pt x="834" y="1695"/>
                </a:lnTo>
                <a:lnTo>
                  <a:pt x="873" y="1758"/>
                </a:lnTo>
                <a:lnTo>
                  <a:pt x="939" y="1776"/>
                </a:lnTo>
                <a:lnTo>
                  <a:pt x="996" y="1743"/>
                </a:lnTo>
                <a:lnTo>
                  <a:pt x="1470" y="1461"/>
                </a:lnTo>
                <a:lnTo>
                  <a:pt x="1522" y="1421"/>
                </a:lnTo>
                <a:lnTo>
                  <a:pt x="1521" y="1377"/>
                </a:lnTo>
                <a:lnTo>
                  <a:pt x="1498" y="1337"/>
                </a:lnTo>
                <a:lnTo>
                  <a:pt x="621" y="33"/>
                </a:lnTo>
                <a:lnTo>
                  <a:pt x="546" y="0"/>
                </a:lnTo>
                <a:lnTo>
                  <a:pt x="492" y="36"/>
                </a:lnTo>
                <a:lnTo>
                  <a:pt x="30" y="324"/>
                </a:lnTo>
                <a:lnTo>
                  <a:pt x="0" y="372"/>
                </a:lnTo>
                <a:lnTo>
                  <a:pt x="18" y="438"/>
                </a:lnTo>
                <a:lnTo>
                  <a:pt x="75" y="528"/>
                </a:lnTo>
                <a:lnTo>
                  <a:pt x="318" y="873"/>
                </a:lnTo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3200400" y="3614760"/>
            <a:ext cx="85680" cy="42840"/>
          </a:xfrm>
          <a:custGeom>
            <a:avLst/>
            <a:gdLst>
              <a:gd name="textAreaLeft" fmla="*/ 0 w 85680"/>
              <a:gd name="textAreaRight" fmla="*/ 85680 w 85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27">
                <a:moveTo>
                  <a:pt x="0" y="27"/>
                </a:moveTo>
                <a:lnTo>
                  <a:pt x="24" y="15"/>
                </a:lnTo>
                <a:lnTo>
                  <a:pt x="54" y="0"/>
                </a:lnTo>
              </a:path>
            </a:pathLst>
          </a:custGeom>
          <a:noFill/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066680" y="3962520"/>
            <a:ext cx="16765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WY 31 Displaced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 flipV="1">
            <a:off x="2666880" y="3657600"/>
            <a:ext cx="60984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3:13:57Z</dcterms:created>
  <dc:creator>karl.scribner</dc:creator>
  <dc:description/>
  <dc:language>en-US</dc:language>
  <cp:lastModifiedBy>MillerTL</cp:lastModifiedBy>
  <dcterms:modified xsi:type="dcterms:W3CDTF">2011-05-04T14:44:34Z</dcterms:modified>
  <cp:revision>3</cp:revision>
  <dc:subject/>
  <dc:title>No Slide Title</dc:title>
</cp:coreProperties>
</file>