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E8B-8752-451B-BC85-DDEBE10F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629-DF9D-4365-A2C5-7AC8A770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1FD-C08E-4D56-AD71-8436BF96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80A-89C5-4568-A962-732C989E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2BC-9B9E-48E5-9855-F5716A82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67F-9A9C-40A8-ADE6-00A9258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E16-9D18-43B5-B49D-2A88DB5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DF4-EB5A-4967-9980-FC866DC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760-E8AE-4ECF-9683-26F0E47D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B5E-F53C-4D92-81D0-98F6C10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1AB-C939-4B2E-A5B8-478645A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483-D030-42EA-A350-5E401AD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2F5E-EDE0-41C5-A83C-7F7B0E36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85800" y="-228600"/>
            <a:ext cx="10474200" cy="773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9440" y="1293840"/>
            <a:ext cx="1292040" cy="382680"/>
          </a:xfrm>
          <a:custGeom>
            <a:avLst/>
            <a:gdLst/>
            <a:ahLst/>
            <a:rect l="l" t="t" r="r" b="b"/>
            <a:pathLst>
              <a:path w="814" h="241">
                <a:moveTo>
                  <a:pt x="814" y="24"/>
                </a:moveTo>
                <a:lnTo>
                  <a:pt x="0" y="0"/>
                </a:lnTo>
                <a:lnTo>
                  <a:pt x="1" y="119"/>
                </a:lnTo>
                <a:lnTo>
                  <a:pt x="465" y="241"/>
                </a:lnTo>
                <a:lnTo>
                  <a:pt x="584" y="107"/>
                </a:lnTo>
                <a:lnTo>
                  <a:pt x="814" y="24"/>
                </a:lnTo>
                <a:close/>
              </a:path>
            </a:pathLst>
          </a:custGeom>
          <a:solidFill>
            <a:srgbClr val="80008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 rot="18835800">
            <a:off x="7861320" y="4983120"/>
            <a:ext cx="3646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4952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0"/>
                </a:moveTo>
                <a:lnTo>
                  <a:pt x="0" y="144"/>
                </a:lnTo>
              </a:path>
            </a:pathLst>
          </a:custGeom>
          <a:noFill/>
          <a:ln w="5076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64680" y="4648320"/>
            <a:ext cx="679320" cy="3682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1828800"/>
            <a:ext cx="609480" cy="3682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838080"/>
            <a:ext cx="679320" cy="3682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143000"/>
            <a:ext cx="609480" cy="457200"/>
          </a:xfrm>
          <a:prstGeom prst="hexagon">
            <a:avLst>
              <a:gd name="adj" fmla="val 33327"/>
              <a:gd name="vf" fmla="val 115470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1219320"/>
            <a:ext cx="609480" cy="457200"/>
          </a:xfrm>
          <a:prstGeom prst="hexagon">
            <a:avLst>
              <a:gd name="adj" fmla="val 33327"/>
              <a:gd name="vf" fmla="val 115470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73560" y="380880"/>
            <a:ext cx="2129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-4806W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t Link Or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9760" y="7086600"/>
            <a:ext cx="1508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22:49:54Z</dcterms:created>
  <dc:creator>HP Authorized Customer</dc:creator>
  <dc:description/>
  <dc:language>en-US</dc:language>
  <cp:lastModifiedBy>HP Authorized Customer</cp:lastModifiedBy>
  <dcterms:modified xsi:type="dcterms:W3CDTF">2006-03-17T06:36:02Z</dcterms:modified>
  <cp:revision>14</cp:revision>
  <dc:subject/>
  <dc:title>Slide 1</dc:title>
</cp:coreProperties>
</file>