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FFFF-684F-4C57-8BFD-A2750325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A4D9-C216-4C7C-9A8D-110957B2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ACE-D013-45EC-858B-CF940D1A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727-3BB5-4A8E-89E4-9B5C01C6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3CFD-1CFB-41E6-9C26-6C315382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2CEC-EAB3-44F5-AE26-1F2CF884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C43-F88A-4B42-A469-E2601679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867-B24B-41F7-9F95-6C993FDD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E89-64AE-4012-AB53-120368E3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9962-3EE5-40EB-94D6-C7EC0348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542-99F6-49F3-A8C5-FD3017B9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B2E-0EFA-417C-A5FE-FC81BB96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1B2D-0226-4F74-AF73-AA8BD704C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2133720" y="1409760"/>
            <a:ext cx="4771800" cy="3314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1549440" y="381600"/>
            <a:ext cx="66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ma AE operation area / Fentress NALF Class E Air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126160" y="5227920"/>
            <a:ext cx="51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ma AE operations will be conducted with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 nm of the center of the run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549440" y="381600"/>
            <a:ext cx="66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ma AE operation area / Fentress NALF Class E Air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400640" cy="34765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2323440" y="5456520"/>
            <a:ext cx="49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ma AE operations will be conducted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rsely populated areas and farm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22:18:27Z</dcterms:created>
  <dc:creator>Rick Ryan</dc:creator>
  <dc:description/>
  <dc:language>en-US</dc:language>
  <cp:lastModifiedBy>PorterfP</cp:lastModifiedBy>
  <dcterms:modified xsi:type="dcterms:W3CDTF">2008-08-28T15:52:09Z</dcterms:modified>
  <cp:revision>258</cp:revision>
  <dc:subject/>
  <dc:title>Slide 1</dc:title>
</cp:coreProperties>
</file>