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776-8BA1-41B3-BA84-3CF0410C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FCA-22BC-4C29-BC70-C7001DB8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5BC-4C43-43EA-A39D-022E0475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3B5-ABEB-4BB0-A9DB-E34A2F52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9C0-73A8-4E31-A76E-4372631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FE3-9947-4373-A79B-01DF98B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22D-6836-43DA-96EA-457797C8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390-4B69-48C5-AFFC-073BFB87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B97-6684-4F67-BD0E-D201F5B5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1F8-655E-446B-AB12-F67CA36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5D8-0FE3-47B7-83ED-97AEDAA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F8C-81CC-4AD4-97F8-85583526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CE78-42EC-4DC9-BB29-7B816B8FB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3917880"/>
            <a:ext cx="660600" cy="577800"/>
          </a:xfrm>
          <a:custGeom>
            <a:avLst/>
            <a:gdLst/>
            <a:ahLst/>
            <a:rect l="l" t="t" r="r" b="b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3240" y="4479840"/>
            <a:ext cx="314640" cy="149400"/>
          </a:xfrm>
          <a:custGeom>
            <a:avLst/>
            <a:gdLst/>
            <a:ahLst/>
            <a:rect l="l" t="t" r="r" b="b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HP Authorized Customer</cp:lastModifiedBy>
  <dcterms:modified xsi:type="dcterms:W3CDTF">2006-03-04T20:22:48Z</dcterms:modified>
  <cp:revision>8</cp:revision>
  <dc:subject/>
  <dc:title>Slide 1</dc:title>
</cp:coreProperties>
</file>