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1CD-47DC-42C8-A478-349DDF86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579-B636-4BCE-8E68-C2E7D40A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605-87AF-45FA-8E61-5B7D19B8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A10E-23C9-4231-8E78-C5AF9853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48E1-DC18-45F3-871B-854A4BCE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C00-CB39-4B77-A163-6A345EB4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C62-EF5D-49FA-B3BE-8E950C65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755-ADB7-4C7C-9EB1-FF3E14AC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D006-53C3-4D68-AB9E-39450966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F2E-451C-4B10-9AB9-F2A89CEE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1A9-91BD-4EE5-B5F9-3AC79693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806-31A5-416E-B7B2-8A2C6D77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DF0F-00E3-4443-938A-FB5DBC500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85800" y="-85716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43200" y="2819520"/>
            <a:ext cx="609480" cy="99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1880" y="2971800"/>
            <a:ext cx="457200" cy="685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0" y="3768840"/>
            <a:ext cx="1995480" cy="2784240"/>
          </a:xfrm>
          <a:custGeom>
            <a:avLst/>
            <a:gdLst/>
            <a:ahLst/>
            <a:rect l="l" t="t" r="r" b="b"/>
            <a:pathLst>
              <a:path w="1257" h="1754">
                <a:moveTo>
                  <a:pt x="0" y="0"/>
                </a:moveTo>
                <a:lnTo>
                  <a:pt x="1257" y="1754"/>
                </a:lnTo>
              </a:path>
            </a:pathLst>
          </a:custGeom>
          <a:noFill/>
          <a:ln w="76320">
            <a:solidFill>
              <a:srgbClr val="66ff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3276600">
            <a:off x="3405240" y="4989240"/>
            <a:ext cx="676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38480" y="1433520"/>
            <a:ext cx="2415960" cy="2819520"/>
          </a:xfrm>
          <a:custGeom>
            <a:avLst/>
            <a:gdLst/>
            <a:ahLst/>
            <a:rect l="l" t="t" r="r" b="b"/>
            <a:pathLst>
              <a:path w="1522" h="1776">
                <a:moveTo>
                  <a:pt x="626" y="1381"/>
                </a:moveTo>
                <a:lnTo>
                  <a:pt x="834" y="1695"/>
                </a:lnTo>
                <a:lnTo>
                  <a:pt x="873" y="1758"/>
                </a:lnTo>
                <a:lnTo>
                  <a:pt x="939" y="1776"/>
                </a:lnTo>
                <a:lnTo>
                  <a:pt x="996" y="1743"/>
                </a:lnTo>
                <a:lnTo>
                  <a:pt x="1470" y="1461"/>
                </a:lnTo>
                <a:lnTo>
                  <a:pt x="1522" y="1421"/>
                </a:lnTo>
                <a:lnTo>
                  <a:pt x="1521" y="1377"/>
                </a:lnTo>
                <a:lnTo>
                  <a:pt x="1498" y="1337"/>
                </a:lnTo>
                <a:lnTo>
                  <a:pt x="621" y="33"/>
                </a:lnTo>
                <a:lnTo>
                  <a:pt x="546" y="0"/>
                </a:lnTo>
                <a:lnTo>
                  <a:pt x="492" y="36"/>
                </a:lnTo>
                <a:lnTo>
                  <a:pt x="30" y="324"/>
                </a:lnTo>
                <a:lnTo>
                  <a:pt x="0" y="372"/>
                </a:lnTo>
                <a:lnTo>
                  <a:pt x="18" y="438"/>
                </a:lnTo>
                <a:lnTo>
                  <a:pt x="75" y="528"/>
                </a:lnTo>
                <a:lnTo>
                  <a:pt x="318" y="873"/>
                </a:lnTo>
              </a:path>
            </a:pathLst>
          </a:cu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614760"/>
            <a:ext cx="85680" cy="42840"/>
          </a:xfrm>
          <a:custGeom>
            <a:avLst/>
            <a:gdLst/>
            <a:ahLst/>
            <a:rect l="l" t="t" r="r" b="b"/>
            <a:pathLst>
              <a:path w="54" h="27">
                <a:moveTo>
                  <a:pt x="0" y="27"/>
                </a:moveTo>
                <a:lnTo>
                  <a:pt x="24" y="15"/>
                </a:lnTo>
                <a:lnTo>
                  <a:pt x="54" y="0"/>
                </a:lnTo>
              </a:path>
            </a:pathLst>
          </a:custGeom>
          <a:noFill/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3962520"/>
            <a:ext cx="16765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WY 31 Displaced 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666880" y="3657600"/>
            <a:ext cx="609840" cy="457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3:13:57Z</dcterms:created>
  <dc:creator>karl.scribner</dc:creator>
  <dc:description/>
  <dc:language>en-US</dc:language>
  <cp:lastModifiedBy>Beed</cp:lastModifiedBy>
  <dcterms:modified xsi:type="dcterms:W3CDTF">2006-03-06T18:39:35Z</dcterms:modified>
  <cp:revision>3</cp:revision>
  <dc:subject/>
  <dc:title>No Slide Title</dc:title>
</cp:coreProperties>
</file>