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200-1AE0-4BFB-A5E6-59156296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2F4-44FF-4F13-8D77-0EEC12BE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BC2-86E3-4AA8-9302-42A1CDA3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BA7-D28C-43BD-9640-4E5D087A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882-11FE-4F2F-884D-46AF907C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3D5-1EC6-4497-A511-7D574AF3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C89-39B1-4C61-B8D2-D1D6250A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02C-4644-40DE-A806-84C51ED8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B00-5049-4095-AFAE-F79F18BA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69B-7B29-4D26-B697-284A86DF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0AB-030D-4F62-80DC-A1FBAAE0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DF3-064D-4DA8-8270-9BBF4A7C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F405-66CD-4853-9E29-A62600991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Untitled-1"/>
          <p:cNvPicPr/>
          <p:nvPr/>
        </p:nvPicPr>
        <p:blipFill>
          <a:blip r:embed="rId1"/>
          <a:srcRect l="-24143" t="-19189" r="-24143" b="-19189"/>
          <a:stretch/>
        </p:blipFill>
        <p:spPr>
          <a:xfrm>
            <a:off x="-2362320" y="-1754280"/>
            <a:ext cx="11658600" cy="12652560"/>
          </a:xfrm>
          <a:prstGeom prst="rect">
            <a:avLst/>
          </a:prstGeom>
          <a:ln w="0">
            <a:noFill/>
          </a:ln>
        </p:spPr>
      </p:pic>
      <p:sp>
        <p:nvSpPr>
          <p:cNvPr id="42" name="Freeform 5"/>
          <p:cNvSpPr/>
          <p:nvPr/>
        </p:nvSpPr>
        <p:spPr>
          <a:xfrm>
            <a:off x="3076560" y="3903840"/>
            <a:ext cx="276120" cy="1658880"/>
          </a:xfrm>
          <a:custGeom>
            <a:avLst/>
            <a:gdLst>
              <a:gd name="textAreaLeft" fmla="*/ 0 w 276120"/>
              <a:gd name="textAreaRight" fmla="*/ 276480 w 2761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174" h="1045">
                <a:moveTo>
                  <a:pt x="174" y="1045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7"/>
          <p:cNvSpPr/>
          <p:nvPr/>
        </p:nvSpPr>
        <p:spPr>
          <a:xfrm>
            <a:off x="3200400" y="4419720"/>
            <a:ext cx="158760" cy="1119240"/>
          </a:xfrm>
          <a:custGeom>
            <a:avLst/>
            <a:gdLst>
              <a:gd name="textAreaLeft" fmla="*/ 0 w 158760"/>
              <a:gd name="textAreaRight" fmla="*/ 159120 w 15876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111" h="620">
                <a:moveTo>
                  <a:pt x="111" y="620"/>
                </a:moveTo>
                <a:lnTo>
                  <a:pt x="0" y="0"/>
                </a:lnTo>
              </a:path>
            </a:pathLst>
          </a:custGeom>
          <a:noFill/>
          <a:ln w="6660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28600" y="6248520"/>
            <a:ext cx="4114800" cy="703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Red Lines Depict the Route Back to Restricted Air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1529640" y="2514600"/>
            <a:ext cx="1909080" cy="642600"/>
          </a:xfrm>
          <a:prstGeom prst="rect">
            <a:avLst/>
          </a:prstGeom>
          <a:solidFill>
            <a:srgbClr val="ff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-4808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5263920" y="3962520"/>
            <a:ext cx="20354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-4806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 rot="18260400">
            <a:off x="2710800" y="5365800"/>
            <a:ext cx="882360" cy="360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4:41:43Z</dcterms:created>
  <dc:creator>HP Authorized Customer</dc:creator>
  <dc:description/>
  <dc:language>en-US</dc:language>
  <cp:lastModifiedBy>MillerTL</cp:lastModifiedBy>
  <dcterms:modified xsi:type="dcterms:W3CDTF">2011-05-04T14:45:41Z</dcterms:modified>
  <cp:revision>7</cp:revision>
  <dc:subject/>
  <dc:title>Slide 1</dc:title>
</cp:coreProperties>
</file>