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0A7-7E1E-4F9A-A12C-A29A8928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3E2-826B-475A-A29C-B6F6159D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45B-6EA3-4329-A12E-F41598A3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C97-7420-48B1-B326-31C65ECF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DBB-B59B-4092-9DB1-BA96FFEF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EE7-D5DD-4D00-9F9A-327A68FE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AF0-EFB3-4FC9-A56F-5FD17E05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4F0-6FCC-4A92-B4EE-5E56FFB5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D4C-BF4D-44E8-B1ED-5B2700CC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BA2-FE40-4A97-83BA-EB4C6989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451-2BF8-4C51-A96D-3DBC40D7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7EF-80F2-4046-B561-4F7C6F84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3032-92ED-49E4-AEE7-5811440B2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24146" t="-19190" r="-24146" b="-19190"/>
          <a:stretch/>
        </p:blipFill>
        <p:spPr>
          <a:xfrm>
            <a:off x="-2362320" y="-1754280"/>
            <a:ext cx="11658600" cy="12652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76560" y="3903840"/>
            <a:ext cx="276120" cy="1658880"/>
          </a:xfrm>
          <a:custGeom>
            <a:avLst/>
            <a:gdLst/>
            <a:ahLst/>
            <a:rect l="l" t="t" r="r" b="b"/>
            <a:pathLst>
              <a:path w="174" h="1045">
                <a:moveTo>
                  <a:pt x="174" y="1045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4419720"/>
            <a:ext cx="158760" cy="1119240"/>
          </a:xfrm>
          <a:custGeom>
            <a:avLst/>
            <a:gdLst/>
            <a:ahLst/>
            <a:rect l="l" t="t" r="r" b="b"/>
            <a:pathLst>
              <a:path w="111" h="620">
                <a:moveTo>
                  <a:pt x="111" y="620"/>
                </a:moveTo>
                <a:lnTo>
                  <a:pt x="0" y="0"/>
                </a:lnTo>
              </a:path>
            </a:pathLst>
          </a:custGeom>
          <a:noFill/>
          <a:ln w="6660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248520"/>
            <a:ext cx="4114800" cy="703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Red Lines Depict the Route Back to Restricted Air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9640" y="2514600"/>
            <a:ext cx="1909080" cy="642600"/>
          </a:xfrm>
          <a:prstGeom prst="rect">
            <a:avLst/>
          </a:prstGeom>
          <a:solidFill>
            <a:srgbClr val="ff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-4808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63920" y="3962520"/>
            <a:ext cx="20354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-4806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260400">
            <a:off x="2710800" y="5365800"/>
            <a:ext cx="882360" cy="360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4:41:43Z</dcterms:created>
  <dc:creator>HP Authorized Customer</dc:creator>
  <dc:description/>
  <dc:language>en-US</dc:language>
  <cp:lastModifiedBy>Beed</cp:lastModifiedBy>
  <dcterms:modified xsi:type="dcterms:W3CDTF">2006-03-08T02:30:53Z</dcterms:modified>
  <cp:revision>7</cp:revision>
  <dc:subject/>
  <dc:title>Slide 1</dc:title>
</cp:coreProperties>
</file>