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C327-EF86-42FE-BD38-3992DB8DB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3AAF-D2E0-421D-8E2A-93A84949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B6AA-A9CF-43A5-A0E4-D95C280F2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EFE5-245F-40C7-B4F8-D16B3404B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C1B0-2E62-46CA-B3CE-05D8196A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9C84-0C21-422D-8B6E-3F215714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8AE7-52BB-48DA-AB2E-45D1EF8C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6F90-1648-4AA5-BD0F-84B91BD4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8A90-C04B-4693-9B49-0BF49E00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5546-FCAA-40E1-974A-839D9E32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4A60-E2B5-4A3E-B1FF-2B9905A6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FC2C-F670-496D-AE7A-4171BFDD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7763-F18C-4AF2-B581-EFA2F116CC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Straight Connector 3"/>
          <p:cNvSpPr/>
          <p:nvPr/>
        </p:nvSpPr>
        <p:spPr>
          <a:xfrm flipH="1">
            <a:off x="5103360" y="382680"/>
            <a:ext cx="3240" cy="38862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18:51:32Z</dcterms:created>
  <dc:creator>PorterfP</dc:creator>
  <dc:description/>
  <dc:language>en-US</dc:language>
  <cp:lastModifiedBy>PorterfP</cp:lastModifiedBy>
  <dcterms:modified xsi:type="dcterms:W3CDTF">2008-08-27T19:51:50Z</dcterms:modified>
  <cp:revision>2</cp:revision>
  <dc:subject/>
  <dc:title>Slide 1</dc:title>
</cp:coreProperties>
</file>