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495-3272-400C-961D-9EC01A4F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AD7-F791-4053-99DF-6BEAC570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640-93BA-44EB-A08B-A881CF2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93C-20CE-4ECA-9148-7C4A0085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975-1A4A-4D63-8D84-C51849BA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6B2-F8C7-4143-BE12-88E73706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AD5-381B-4C41-B97B-02710553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60-A6FD-4878-8E9D-2EC79AC3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27A-DE70-4205-9368-4973442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61D-D198-4F9D-9C19-5F1D4B6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B08-4EDE-4477-8AF5-96011425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D35-8D93-432A-A7F8-AA322FA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22A0-E1E4-45CE-8D60-F89C25030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/>
            <a:ahLst/>
            <a:rect l="l" t="t" r="r" b="b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/>
            <a:ahLst/>
            <a:rect l="l" t="t" r="r" b="b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/>
            <a:ahLst/>
            <a:rect l="l" t="t" r="r" b="b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7440" y="636480"/>
            <a:ext cx="20880" cy="1954440"/>
          </a:xfrm>
          <a:custGeom>
            <a:avLst/>
            <a:gdLst/>
            <a:ahLst/>
            <a:rect l="l" t="t" r="r" b="b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Beed</cp:lastModifiedBy>
  <dcterms:modified xsi:type="dcterms:W3CDTF">2006-03-08T02:57:44Z</dcterms:modified>
  <cp:revision>6</cp:revision>
  <dc:subject/>
  <dc:title>Slide 1</dc:title>
</cp:coreProperties>
</file>