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049-D096-47A2-888C-90DC6822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08B-DEB8-4529-A435-EF7B4146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266-057A-4DB6-98EB-FFCD796F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EBF-7A99-4AB7-9489-BFF63AD2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AD6-C652-4D94-90CB-FA3852A3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9A6-4B7D-4CF9-83A9-F35DE2B1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C50-D0FE-47E9-B5B2-143C325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798-BB0D-4816-91CF-CC83EFC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D9A-5861-4DFC-80DE-65DE6E1E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018-31BD-47FC-BCE4-C241AAE0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434-A028-4F5E-954C-741A80D3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F0E-1C36-482B-9B63-7AC6ACA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46AC-FC2C-4685-93E5-0744686A0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3"/>
          <p:cNvSpPr/>
          <p:nvPr/>
        </p:nvSpPr>
        <p:spPr>
          <a:xfrm flipH="1">
            <a:off x="5103360" y="382680"/>
            <a:ext cx="3240" cy="3886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8:51:32Z</dcterms:created>
  <dc:creator>PorterfP</dc:creator>
  <dc:description/>
  <dc:language>en-US</dc:language>
  <cp:lastModifiedBy>PorterfP</cp:lastModifiedBy>
  <dcterms:modified xsi:type="dcterms:W3CDTF">2008-08-27T19:51:50Z</dcterms:modified>
  <cp:revision>2</cp:revision>
  <dc:subject/>
  <dc:title>Slide 1</dc:title>
</cp:coreProperties>
</file>