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A41-7D45-4096-8273-7C313012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76B-A308-4D91-8883-F18F1E1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633-84C3-40F7-9CD3-126B428D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8D9-A5D1-4C1E-8C2C-B7FAB470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6FE-FB4A-4681-AC31-E2B4D6C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BA4-3EC8-49E9-B875-27FE2902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173-FE08-413F-A72D-1E78037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B63-F4AC-461E-9A36-6AAD74A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5C8-2358-4617-AD3F-A4F1881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D4E-8742-48CC-9ADC-7214EC4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AFF-8650-42A3-AEB3-543F7A0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B4E-62D6-45C5-9F46-FC8CD07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E26A-AECB-4D2C-8676-5E190731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1066680"/>
            <a:ext cx="6972480" cy="451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1828800"/>
            <a:ext cx="127080" cy="3352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276720" y="4838760"/>
            <a:ext cx="1003320" cy="342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80040" y="3352680"/>
            <a:ext cx="0" cy="1486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36600" y="2323800"/>
            <a:ext cx="343080" cy="10285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7040" y="1866960"/>
            <a:ext cx="799920" cy="457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30:07Z</dcterms:created>
  <dc:creator>cherlynn jones</dc:creator>
  <dc:description/>
  <dc:language>en-US</dc:language>
  <cp:lastModifiedBy>GolliverJ</cp:lastModifiedBy>
  <dcterms:modified xsi:type="dcterms:W3CDTF">2008-03-13T20:15:14Z</dcterms:modified>
  <cp:revision>3</cp:revision>
  <dc:subject/>
  <dc:title>Slide 1</dc:title>
</cp:coreProperties>
</file>