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974-FF22-41BD-BF46-06D07C6E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0F4-0BB3-4FF5-9BB9-75DC7671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A2E-DA72-4CDF-9C78-EFE47031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545-9BD5-4693-A138-61837DE4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CA7-7D20-4E95-A634-FF768977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4A1-1D1E-4B5F-80EA-26266AB2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A40-8543-4ED7-987D-DDF57041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981-A85D-401F-8312-2AE405E4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D45-4282-4D74-83B0-C2DBEA73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EAF-B472-4B50-9C84-1C0C538C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7AF-821D-4B1E-8668-98B3F497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673-987F-451D-B376-FD2E0AE3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B995-F2C2-4E55-B4B5-6E0F26C30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u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52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unch capable in 0 mph headwin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rcRect l="0" t="0" r="401" b="0"/>
          <a:stretch/>
        </p:blipFill>
        <p:spPr>
          <a:xfrm>
            <a:off x="533520" y="2438280"/>
            <a:ext cx="83120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DSC00835"/>
          <p:cNvPicPr/>
          <p:nvPr/>
        </p:nvPicPr>
        <p:blipFill>
          <a:blip r:embed="rId1"/>
          <a:srcRect l="0" t="0" r="0" b="23743"/>
          <a:stretch/>
        </p:blipFill>
        <p:spPr>
          <a:xfrm>
            <a:off x="290520" y="2038320"/>
            <a:ext cx="4137120" cy="23655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360360" y="1320840"/>
            <a:ext cx="3860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onstrated Accurate Autonomous Landing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Rocks"/>
          <p:cNvPicPr/>
          <p:nvPr/>
        </p:nvPicPr>
        <p:blipFill>
          <a:blip r:embed="rId2"/>
          <a:stretch/>
        </p:blipFill>
        <p:spPr>
          <a:xfrm>
            <a:off x="1827360" y="5924520"/>
            <a:ext cx="371160" cy="22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3"/>
          <a:stretch/>
        </p:blipFill>
        <p:spPr>
          <a:xfrm>
            <a:off x="566640" y="5388120"/>
            <a:ext cx="385920" cy="79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4"/>
          <a:stretch/>
        </p:blipFill>
        <p:spPr>
          <a:xfrm>
            <a:off x="2060640" y="5748480"/>
            <a:ext cx="214200" cy="439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5"/>
          <a:stretch/>
        </p:blipFill>
        <p:spPr>
          <a:xfrm>
            <a:off x="314280" y="5867280"/>
            <a:ext cx="154080" cy="320760"/>
          </a:xfrm>
          <a:prstGeom prst="rect">
            <a:avLst/>
          </a:prstGeom>
          <a:ln w="0">
            <a:noFill/>
          </a:ln>
        </p:spPr>
      </p:pic>
      <p:sp>
        <p:nvSpPr>
          <p:cNvPr id="51" name="Line 13"/>
          <p:cNvSpPr/>
          <p:nvPr/>
        </p:nvSpPr>
        <p:spPr>
          <a:xfrm>
            <a:off x="228600" y="6188040"/>
            <a:ext cx="46483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1166760" y="5348160"/>
            <a:ext cx="68112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1250640" y="5348160"/>
            <a:ext cx="27702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1847880" y="534816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4021200" y="534816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6"/>
          <a:stretch/>
        </p:blipFill>
        <p:spPr>
          <a:xfrm>
            <a:off x="1549440" y="5627520"/>
            <a:ext cx="271440" cy="56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7"/>
          <a:stretch/>
        </p:blipFill>
        <p:spPr>
          <a:xfrm>
            <a:off x="2712960" y="5508720"/>
            <a:ext cx="328680" cy="67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PumaAEProfile"/>
          <p:cNvPicPr/>
          <p:nvPr/>
        </p:nvPicPr>
        <p:blipFill>
          <a:blip r:embed="rId8"/>
          <a:stretch/>
        </p:blipFill>
        <p:spPr>
          <a:xfrm>
            <a:off x="1981080" y="5251320"/>
            <a:ext cx="457200" cy="158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PumaAEProfile"/>
          <p:cNvPicPr/>
          <p:nvPr/>
        </p:nvPicPr>
        <p:blipFill>
          <a:blip r:embed="rId9"/>
          <a:stretch/>
        </p:blipFill>
        <p:spPr>
          <a:xfrm>
            <a:off x="3429000" y="5346720"/>
            <a:ext cx="457200" cy="158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MMWV ICON"/>
          <p:cNvPicPr/>
          <p:nvPr/>
        </p:nvPicPr>
        <p:blipFill>
          <a:blip r:embed="rId10"/>
          <a:stretch/>
        </p:blipFill>
        <p:spPr>
          <a:xfrm>
            <a:off x="3225960" y="5757840"/>
            <a:ext cx="909360" cy="399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TREE ICON"/>
          <p:cNvPicPr/>
          <p:nvPr/>
        </p:nvPicPr>
        <p:blipFill>
          <a:blip r:embed="rId11"/>
          <a:stretch/>
        </p:blipFill>
        <p:spPr>
          <a:xfrm>
            <a:off x="4092480" y="5396040"/>
            <a:ext cx="787320" cy="733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Rocks"/>
          <p:cNvPicPr/>
          <p:nvPr/>
        </p:nvPicPr>
        <p:blipFill>
          <a:blip r:embed="rId12"/>
          <a:stretch/>
        </p:blipFill>
        <p:spPr>
          <a:xfrm>
            <a:off x="2544840" y="6005520"/>
            <a:ext cx="244440" cy="14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Rocks"/>
          <p:cNvPicPr/>
          <p:nvPr/>
        </p:nvPicPr>
        <p:blipFill>
          <a:blip r:embed="rId13"/>
          <a:stretch/>
        </p:blipFill>
        <p:spPr>
          <a:xfrm>
            <a:off x="4724280" y="5919840"/>
            <a:ext cx="316080" cy="190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6"/>
          <p:cNvSpPr/>
          <p:nvPr/>
        </p:nvSpPr>
        <p:spPr>
          <a:xfrm>
            <a:off x="665280" y="4711680"/>
            <a:ext cx="4064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eep Insertion Angle for more precise landing and avoidance of obsta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7" descr="DSC00860"/>
          <p:cNvPicPr/>
          <p:nvPr/>
        </p:nvPicPr>
        <p:blipFill>
          <a:blip r:embed="rId14"/>
          <a:srcRect l="12766" t="11894" r="16087" b="34499"/>
          <a:stretch/>
        </p:blipFill>
        <p:spPr>
          <a:xfrm>
            <a:off x="5334120" y="4192560"/>
            <a:ext cx="3233520" cy="1827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0"/>
          <p:cNvSpPr/>
          <p:nvPr/>
        </p:nvSpPr>
        <p:spPr>
          <a:xfrm>
            <a:off x="1641240" y="381492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ft 4 inches from GPS target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4398840" y="1295280"/>
            <a:ext cx="4394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onstrated Ability to Land in Water, Float  for Extended Period, and Re-launch without Dam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2" descr="DSC00868"/>
          <p:cNvPicPr/>
          <p:nvPr/>
        </p:nvPicPr>
        <p:blipFill>
          <a:blip r:embed="rId15"/>
          <a:srcRect l="0" t="13921" r="0" b="6955"/>
          <a:stretch/>
        </p:blipFill>
        <p:spPr>
          <a:xfrm>
            <a:off x="4648320" y="2057400"/>
            <a:ext cx="413532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20:52:26Z</dcterms:created>
  <dc:creator>PorterfP</dc:creator>
  <dc:description/>
  <dc:language>en-US</dc:language>
  <cp:lastModifiedBy>PorterfP</cp:lastModifiedBy>
  <dcterms:modified xsi:type="dcterms:W3CDTF">2009-04-30T20:55:16Z</dcterms:modified>
  <cp:revision>1</cp:revision>
  <dc:subject/>
  <dc:title>Launch</dc:title>
</cp:coreProperties>
</file>