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C7F-FD4B-4903-808C-656F0BCF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686-71E8-450A-B0DA-8917D131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716-2065-4AAE-A26F-D5C58FF7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5CB-1C8B-447B-B01C-DEBF1106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1E2-F17C-4628-BBCA-C783DD01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5CE-B0DC-4EEC-97B9-F447C635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EC8-CF4E-4023-BF5E-11AA1B93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0C9-AFDE-4794-8B4A-89C42C3D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045-2B40-4F7C-BF39-D196E719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CC6-761C-4DC5-9228-3D0DC900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D7A-3483-4E8F-BB91-5B934623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C16-050D-490E-A1C7-19FD1321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743F-7EEA-415E-8CF5-95EB0B7B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>
            <a:off x="3809880" y="3917880"/>
            <a:ext cx="660600" cy="577800"/>
          </a:xfrm>
          <a:custGeom>
            <a:avLst/>
            <a:gdLst>
              <a:gd name="textAreaLeft" fmla="*/ 0 w 660600"/>
              <a:gd name="textAreaRight" fmla="*/ 660960 w 66060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416" h="364">
                <a:moveTo>
                  <a:pt x="208" y="354"/>
                </a:moveTo>
                <a:lnTo>
                  <a:pt x="0" y="100"/>
                </a:lnTo>
                <a:lnTo>
                  <a:pt x="124" y="0"/>
                </a:lnTo>
                <a:lnTo>
                  <a:pt x="416" y="364"/>
                </a:lnTo>
              </a:path>
            </a:pathLst>
          </a:custGeom>
          <a:noFill/>
          <a:ln w="44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4143240" y="4479840"/>
            <a:ext cx="314640" cy="149400"/>
          </a:xfrm>
          <a:custGeom>
            <a:avLst/>
            <a:gdLst>
              <a:gd name="textAreaLeft" fmla="*/ 0 w 314640"/>
              <a:gd name="textAreaRight" fmla="*/ 315000 w 3146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98" h="94">
                <a:moveTo>
                  <a:pt x="198" y="2"/>
                </a:moveTo>
                <a:lnTo>
                  <a:pt x="78" y="94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015520" y="4049640"/>
            <a:ext cx="3102120" cy="992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d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ower Controlled Class 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ue Lines Depict Traffic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Restricted Air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04:19Z</dcterms:created>
  <dc:creator>HP Authorized Customer</dc:creator>
  <dc:description/>
  <dc:language>en-US</dc:language>
  <cp:lastModifiedBy>MillerTL</cp:lastModifiedBy>
  <dcterms:modified xsi:type="dcterms:W3CDTF">2011-05-04T14:43:19Z</dcterms:modified>
  <cp:revision>8</cp:revision>
  <dc:subject/>
  <dc:title>Slide 1</dc:title>
</cp:coreProperties>
</file>