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2295-4083-41D3-9D20-98649A03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BA8A-FCD2-4573-95C8-FC5E29FD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7B13-6070-4AD8-994E-42113686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89A0-F0E4-4AEB-89E1-A8691E17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C86-EDE5-40F9-B219-D2F6F626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199-7D1E-4F49-BC5B-B4987150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1CE-4DC7-44CE-BA21-2AA8C812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3000-18C2-4A28-92C7-7995900F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5E9-E1AA-4C2C-8E8F-5F1E7AF6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4AA6-762F-44D0-B9D6-7198AEA2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897-EFF2-4305-8956-18B81A47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84E5-C14C-4BB0-A715-46CE211A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8ECA-0BBD-45D9-950D-57D1B2175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3917880"/>
            <a:ext cx="660600" cy="577800"/>
          </a:xfrm>
          <a:custGeom>
            <a:avLst/>
            <a:gdLst/>
            <a:ahLst/>
            <a:rect l="l" t="t" r="r" b="b"/>
            <a:pathLst>
              <a:path w="416" h="364">
                <a:moveTo>
                  <a:pt x="208" y="354"/>
                </a:moveTo>
                <a:lnTo>
                  <a:pt x="0" y="100"/>
                </a:lnTo>
                <a:lnTo>
                  <a:pt x="124" y="0"/>
                </a:lnTo>
                <a:lnTo>
                  <a:pt x="416" y="364"/>
                </a:lnTo>
              </a:path>
            </a:pathLst>
          </a:custGeom>
          <a:noFill/>
          <a:ln w="44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3240" y="4479840"/>
            <a:ext cx="314640" cy="149400"/>
          </a:xfrm>
          <a:custGeom>
            <a:avLst/>
            <a:gdLst/>
            <a:ahLst/>
            <a:rect l="l" t="t" r="r" b="b"/>
            <a:pathLst>
              <a:path w="198" h="94">
                <a:moveTo>
                  <a:pt x="198" y="2"/>
                </a:moveTo>
                <a:lnTo>
                  <a:pt x="78" y="94"/>
                </a:lnTo>
                <a:lnTo>
                  <a:pt x="0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15520" y="4049640"/>
            <a:ext cx="3102120" cy="9921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d Lines Depict Traffic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Tower Controlled Class D 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lue Lines Depict Traffic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Restricted 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4:04:19Z</dcterms:created>
  <dc:creator>HP Authorized Customer</dc:creator>
  <dc:description/>
  <dc:language>en-US</dc:language>
  <cp:lastModifiedBy>HP Authorized Customer</cp:lastModifiedBy>
  <dcterms:modified xsi:type="dcterms:W3CDTF">2006-03-04T20:22:48Z</dcterms:modified>
  <cp:revision>8</cp:revision>
  <dc:subject/>
  <dc:title>Slide 1</dc:title>
</cp:coreProperties>
</file>