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924B-5CE1-4564-8C76-378FE2F0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6189-D8BB-415F-91BB-8087BE94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DE09-2FF6-4560-9EA9-BD5BD037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3315-15C6-4FBF-9F16-D729FE2B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A612-F3BA-4FEE-91D6-CDBF5664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2D3D-4704-4546-85D2-0232383C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073D-4BF0-45CE-A927-E4DC2CF0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FE70-39C6-4A48-A462-C8EFD2D1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B302-CD18-43F4-858D-FBD8C4CB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1B9F-CDDD-4240-8AAF-F969D9CB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B865-3DCA-4EF8-85F6-9DA48349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187-3EC4-4472-8318-2CC463AC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C80C-49BF-4A9E-BB19-77A73E263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24146" t="-19190" r="-24146" b="-19190"/>
          <a:stretch/>
        </p:blipFill>
        <p:spPr>
          <a:xfrm>
            <a:off x="-2362320" y="-1754280"/>
            <a:ext cx="11658600" cy="12652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76560" y="3903840"/>
            <a:ext cx="276120" cy="1658880"/>
          </a:xfrm>
          <a:custGeom>
            <a:avLst/>
            <a:gdLst/>
            <a:ahLst/>
            <a:rect l="l" t="t" r="r" b="b"/>
            <a:pathLst>
              <a:path w="174" h="1045">
                <a:moveTo>
                  <a:pt x="174" y="1045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4419720"/>
            <a:ext cx="158760" cy="1119240"/>
          </a:xfrm>
          <a:custGeom>
            <a:avLst/>
            <a:gdLst/>
            <a:ahLst/>
            <a:rect l="l" t="t" r="r" b="b"/>
            <a:pathLst>
              <a:path w="111" h="620">
                <a:moveTo>
                  <a:pt x="111" y="620"/>
                </a:moveTo>
                <a:lnTo>
                  <a:pt x="0" y="0"/>
                </a:lnTo>
              </a:path>
            </a:pathLst>
          </a:custGeom>
          <a:noFill/>
          <a:ln w="6660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6248520"/>
            <a:ext cx="4114800" cy="703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Red Lines Depict the Route Back to Restricted Air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9640" y="2514600"/>
            <a:ext cx="1909080" cy="642600"/>
          </a:xfrm>
          <a:prstGeom prst="rect">
            <a:avLst/>
          </a:prstGeom>
          <a:solidFill>
            <a:srgbClr val="ffff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-4808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63920" y="3962520"/>
            <a:ext cx="203544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-4806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260400">
            <a:off x="2710800" y="5365800"/>
            <a:ext cx="882360" cy="360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4:41:43Z</dcterms:created>
  <dc:creator>HP Authorized Customer</dc:creator>
  <dc:description/>
  <dc:language>en-US</dc:language>
  <cp:lastModifiedBy>Beed</cp:lastModifiedBy>
  <dcterms:modified xsi:type="dcterms:W3CDTF">2006-03-08T02:30:53Z</dcterms:modified>
  <cp:revision>7</cp:revision>
  <dc:subject/>
  <dc:title>Slide 1</dc:title>
</cp:coreProperties>
</file>