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2E0-D27C-4BD7-95CD-2EE22FC1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20C-2101-4769-9730-430E9C00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7C7-DD86-44F2-9B7F-B29BA89E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E9B-9804-4B1B-BE88-8ADA4E1B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50A-BD2F-45C6-8520-4625548F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564-C30E-4657-A961-A52B7911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EFD-7897-468E-AF90-1F5BE969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04B-D046-4461-B1C0-946C8DAB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71A-D6EF-4A58-95A0-17E0F129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FFC-753D-4C6A-B6F2-8E2A4FC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605-F22C-46CF-B6E9-55E9AECB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72E-97AD-4334-BFD7-FA50BFD1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F63D-0B22-4751-87C2-E79D1321E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203040"/>
            <a:ext cx="4800600" cy="73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25833" t="18750" r="25833" b="3905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1:25:03Z</dcterms:created>
  <dc:creator>daniel.king</dc:creator>
  <dc:description/>
  <dc:language>en-US</dc:language>
  <cp:lastModifiedBy>daniel.king</cp:lastModifiedBy>
  <dcterms:modified xsi:type="dcterms:W3CDTF">2009-03-25T21:27:26Z</dcterms:modified>
  <cp:revision>1</cp:revision>
  <dc:subject/>
  <dc:title>Slide 1</dc:title>
</cp:coreProperties>
</file>