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3740-FD68-4DD7-863D-4572C7CF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3407-5601-4682-8D49-FC898810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20F6-E50F-476D-B0A8-75E362B4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40DF-4E9F-4D0B-9D26-6DDCAFC6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4CCC-2963-4CD6-B6D1-FAE50113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9AF-120F-47BD-ADE1-EA08508C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7D3-7526-45CB-95E7-32B9BB0C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7E6-9EF3-467D-A772-0965CC16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81F-0007-4C82-A632-48A7B474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CFE-B9A3-462A-8D6E-84EFF3A7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183B-BE86-4DDB-B70B-0E2AAB98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0930-40C5-491F-A877-C979FA14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08A9-CC88-4D40-9C94-1B5A49C10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04760" y="114480"/>
            <a:ext cx="2028960" cy="2323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36440" y="4662360"/>
            <a:ext cx="2987640" cy="20142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MAV test operations will take place in Class G Airspace.  Flight operations will be conducted between 100 – 400 feet AGL.  Over lying class E Airspace begins at 700 feet AG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85640" y="295200"/>
            <a:ext cx="817272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32440" y="36360"/>
            <a:ext cx="25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nan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 Fligh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14560" y="790560"/>
            <a:ext cx="6914880" cy="5276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20529000">
            <a:off x="3352320" y="1904760"/>
            <a:ext cx="838440" cy="271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167652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1600" y="5334120"/>
            <a:ext cx="1981080" cy="380880"/>
            <a:chOff x="1371600" y="5334120"/>
            <a:chExt cx="1981080" cy="380880"/>
          </a:xfrm>
        </p:grpSpPr>
        <p:sp>
          <p:nvSpPr>
            <p:cNvPr id="50" name=""/>
            <p:cNvSpPr/>
            <p:nvPr/>
          </p:nvSpPr>
          <p:spPr>
            <a:xfrm>
              <a:off x="1371600" y="5334120"/>
              <a:ext cx="19810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nd Control 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47920" y="5410080"/>
              <a:ext cx="182520" cy="228600"/>
            </a:xfrm>
            <a:custGeom>
              <a:avLst/>
              <a:gdLst>
                <a:gd name="textAreaLeft" fmla="*/ 75240 w 182520"/>
                <a:gd name="textAreaRight" fmla="*/ 107280 w 1825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96120" y="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nan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y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06160" y="112680"/>
            <a:ext cx="43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/ Lower Waste Management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 Flight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00920" cy="5019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38680" y="3581280"/>
            <a:ext cx="457200" cy="1498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3415200">
            <a:off x="4482720" y="2450880"/>
            <a:ext cx="457200" cy="1498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9999200">
            <a:off x="2936520" y="2141280"/>
            <a:ext cx="457200" cy="1650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21840" y="3321000"/>
            <a:ext cx="182952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Field 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9440" y="2057400"/>
            <a:ext cx="182952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Field 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 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8760" y="4952880"/>
            <a:ext cx="18295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Field 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1337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10280" y="419112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371600" y="5334120"/>
            <a:ext cx="1981080" cy="380880"/>
            <a:chOff x="1371600" y="5334120"/>
            <a:chExt cx="1981080" cy="380880"/>
          </a:xfrm>
        </p:grpSpPr>
        <p:sp>
          <p:nvSpPr>
            <p:cNvPr id="65" name=""/>
            <p:cNvSpPr/>
            <p:nvPr/>
          </p:nvSpPr>
          <p:spPr>
            <a:xfrm>
              <a:off x="1371600" y="5334120"/>
              <a:ext cx="19810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nd Control 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47920" y="5410080"/>
              <a:ext cx="182520" cy="228600"/>
            </a:xfrm>
            <a:custGeom>
              <a:avLst/>
              <a:gdLst>
                <a:gd name="textAreaLeft" fmla="*/ 75240 w 182520"/>
                <a:gd name="textAreaRight" fmla="*/ 107280 w 1825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565600" y="1066680"/>
            <a:ext cx="288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/ L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te Management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y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86440" cy="4314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057560" y="3228840"/>
            <a:ext cx="508644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5:16:10Z</dcterms:created>
  <dc:creator>RyanRA</dc:creator>
  <dc:description/>
  <dc:language>en-US</dc:language>
  <cp:lastModifiedBy>RyanRA</cp:lastModifiedBy>
  <dcterms:modified xsi:type="dcterms:W3CDTF">2007-11-21T16:02:46Z</dcterms:modified>
  <cp:revision>6</cp:revision>
  <dc:subject/>
  <dc:title>Slide 1</dc:title>
</cp:coreProperties>
</file>