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524-4577-4F56-8614-B60BC200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038-3808-4403-9B7F-2D8B0F4D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82C-DB72-4FD3-8D17-E9EF65B2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C7A-EE50-464A-B4CA-A676052B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C8D-F4F8-46AF-863F-9C62DD12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476-49B8-46ED-AB9E-A6ED2E69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42A-C41F-4625-A621-1ADE5C00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65C-3F3A-456C-90B3-C811A5B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343-9A6C-4D27-AD26-1EA548BF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3F5-FD5D-4704-B755-A0135129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768-B55B-4DFD-B993-95B484C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D60-30D2-4364-8D89-4EB64818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C6FB-6591-4F45-8E36-1065BE07E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831" r="0" b="4831"/>
          <a:stretch/>
        </p:blipFill>
        <p:spPr>
          <a:xfrm>
            <a:off x="0" y="219240"/>
            <a:ext cx="9067680" cy="63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96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3080" y="6362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00640" y="3441600"/>
            <a:ext cx="183960" cy="1289160"/>
          </a:xfrm>
          <a:custGeom>
            <a:avLst/>
            <a:gdLst/>
            <a:ahLst/>
            <a:rect l="l" t="t" r="r" b="b"/>
            <a:pathLst>
              <a:path w="116" h="812">
                <a:moveTo>
                  <a:pt x="0" y="0"/>
                </a:moveTo>
                <a:lnTo>
                  <a:pt x="116" y="8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4855800">
            <a:off x="4417560" y="3887640"/>
            <a:ext cx="610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3422520"/>
            <a:ext cx="362160" cy="2901960"/>
          </a:xfrm>
          <a:custGeom>
            <a:avLst/>
            <a:gdLst/>
            <a:ahLst/>
            <a:rect l="l" t="t" r="r" b="b"/>
            <a:pathLst>
              <a:path w="228" h="1828">
                <a:moveTo>
                  <a:pt x="228" y="0"/>
                </a:moveTo>
                <a:lnTo>
                  <a:pt x="0" y="18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769000">
            <a:off x="3970080" y="5477400"/>
            <a:ext cx="744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9760" y="2533680"/>
            <a:ext cx="1019160" cy="1390680"/>
          </a:xfrm>
          <a:custGeom>
            <a:avLst/>
            <a:gdLst/>
            <a:ahLst/>
            <a:rect l="l" t="t" r="r" b="b"/>
            <a:pathLst>
              <a:path w="642" h="876">
                <a:moveTo>
                  <a:pt x="238" y="710"/>
                </a:moveTo>
                <a:lnTo>
                  <a:pt x="128" y="868"/>
                </a:lnTo>
                <a:lnTo>
                  <a:pt x="110" y="876"/>
                </a:lnTo>
                <a:lnTo>
                  <a:pt x="94" y="870"/>
                </a:lnTo>
                <a:lnTo>
                  <a:pt x="8" y="808"/>
                </a:lnTo>
                <a:lnTo>
                  <a:pt x="0" y="796"/>
                </a:lnTo>
                <a:lnTo>
                  <a:pt x="2" y="784"/>
                </a:lnTo>
                <a:lnTo>
                  <a:pt x="514" y="16"/>
                </a:lnTo>
                <a:lnTo>
                  <a:pt x="530" y="2"/>
                </a:lnTo>
                <a:lnTo>
                  <a:pt x="548" y="0"/>
                </a:lnTo>
                <a:lnTo>
                  <a:pt x="572" y="12"/>
                </a:lnTo>
                <a:lnTo>
                  <a:pt x="634" y="48"/>
                </a:lnTo>
                <a:lnTo>
                  <a:pt x="642" y="64"/>
                </a:lnTo>
                <a:lnTo>
                  <a:pt x="634" y="90"/>
                </a:lnTo>
                <a:lnTo>
                  <a:pt x="518" y="278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27440" y="636480"/>
            <a:ext cx="20880" cy="1954440"/>
          </a:xfrm>
          <a:custGeom>
            <a:avLst/>
            <a:gdLst/>
            <a:ahLst/>
            <a:rect l="l" t="t" r="r" b="b"/>
            <a:pathLst>
              <a:path w="13" h="1231">
                <a:moveTo>
                  <a:pt x="13" y="123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3040" y="838080"/>
            <a:ext cx="964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ute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tri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23:33:54Z</dcterms:created>
  <dc:creator>Administrator</dc:creator>
  <dc:description/>
  <dc:language>en-US</dc:language>
  <cp:lastModifiedBy>Beed</cp:lastModifiedBy>
  <dcterms:modified xsi:type="dcterms:W3CDTF">2006-03-08T02:57:44Z</dcterms:modified>
  <cp:revision>6</cp:revision>
  <dc:subject/>
  <dc:title>Slide 1</dc:title>
</cp:coreProperties>
</file>