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2B3-5927-4B7D-A001-E4F2EF6C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1BF-254D-410C-8B11-BB6E087C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45B2-1073-451D-9EE9-F3FAB4A2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A01-BC46-462E-99C8-A848FFE7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20CF-B4AA-489B-8555-0107DB2E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893-385B-4D18-B11E-8BDF8B83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FA2-885C-48D6-8DC4-5D3B58F9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646-5A66-4C00-BFE0-A7CBF398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7E7-9824-4453-965B-F588E535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059-9235-4076-AA88-42615E0C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061C-D35F-407A-AC82-00B20A1D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1FF7-FD36-4AD8-9B15-8BB97E16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1090-1E07-4E01-B324-1E31024FF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941480"/>
            <a:ext cx="9144000" cy="4916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438280" y="5486400"/>
            <a:ext cx="27432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Orbit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34° 15' 16.00" W 103° 47' 50.00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343400" y="3505320"/>
            <a:ext cx="152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t Orbit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5"/>
          <p:cNvCxnSpPr/>
          <p:nvPr/>
        </p:nvCxnSpPr>
        <p:spPr>
          <a:xfrm flipH="1" flipV="1">
            <a:off x="4266360" y="3047760"/>
            <a:ext cx="305640" cy="4579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5" name="Straight Arrow Connector 6"/>
          <p:cNvCxnSpPr/>
          <p:nvPr/>
        </p:nvCxnSpPr>
        <p:spPr>
          <a:xfrm flipH="1" flipV="1">
            <a:off x="3504960" y="5028840"/>
            <a:ext cx="305280" cy="4579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L Orbit/Holding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172200" y="3581280"/>
            <a:ext cx="1752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 Orbit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Straight Arrow Connector 9"/>
          <p:cNvCxnSpPr/>
          <p:nvPr/>
        </p:nvCxnSpPr>
        <p:spPr>
          <a:xfrm flipV="1">
            <a:off x="6629040" y="3047400"/>
            <a:ext cx="610200" cy="53388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21:01:09Z</dcterms:created>
  <dc:creator>NickelsS</dc:creator>
  <dc:description/>
  <dc:language>en-US</dc:language>
  <cp:lastModifiedBy>NickelsS</cp:lastModifiedBy>
  <dcterms:modified xsi:type="dcterms:W3CDTF">2009-06-25T21:15:37Z</dcterms:modified>
  <cp:revision>6</cp:revision>
  <dc:subject/>
  <dc:title>Slide 1</dc:title>
</cp:coreProperties>
</file>