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136-A1AA-4F6C-9848-8B88B1A7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DCB-7B09-4071-8BC4-ACD1239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C78-08BD-46C8-8819-03EC43C9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51D-B7C8-4C18-86BB-C2D11D10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C9F-659D-4013-A5B2-5422075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541-87A1-4508-A85E-DCDF8D6D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4C7-FE51-430D-802B-B1489E97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60C-F915-4E48-AD64-241B006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E59-21B0-48CB-BC08-5DE1561D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BD6-395B-44EF-9FCC-CC801209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F5C-BE65-4474-BF5C-A8ED333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391-4663-4CDC-8F49-23E2ADB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DB82-F0CE-49FC-B2E8-484B36B03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4146" t="-19190" r="-24146" b="-19190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/>
            <a:ahLst/>
            <a:rect l="l" t="t" r="r" b="b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/>
            <a:ahLst/>
            <a:rect l="l" t="t" r="r" b="b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Beed</cp:lastModifiedBy>
  <dcterms:modified xsi:type="dcterms:W3CDTF">2006-03-08T02:30:53Z</dcterms:modified>
  <cp:revision>7</cp:revision>
  <dc:subject/>
  <dc:title>Slide 1</dc:title>
</cp:coreProperties>
</file>