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0EB-4F23-4536-910F-94C1946D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0BF-CA58-4645-9E99-E5D9AA09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D28-25BB-48FD-A092-F5013149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1F2-B45A-4EE0-B24E-C2C8B61A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CC4-4429-42B2-A5D2-24AAD7B4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920-39D1-441A-A083-F3BB485F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F01-4270-412C-A62E-4992DC27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97A-9184-47E1-8C80-163605D3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B3A-14FB-41AF-839F-EC417F0C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DE8-E5CD-458F-A375-870C35C3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66E-B232-4870-A6DB-91C6C8D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8AF-F16C-423D-A232-0D37096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1329-4892-4C4B-98A7-8D78E79FF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/>
            <a:ahLst/>
            <a:rect l="l" t="t" r="r" b="b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/>
            <a:ahLst/>
            <a:rect l="l" t="t" r="r" b="b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61476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Beed</cp:lastModifiedBy>
  <dcterms:modified xsi:type="dcterms:W3CDTF">2006-03-06T18:39:35Z</dcterms:modified>
  <cp:revision>3</cp:revision>
  <dc:subject/>
  <dc:title>No Slide Title</dc:title>
</cp:coreProperties>
</file>