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823-7B8E-4255-8E2C-7595C3C1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91A-6DC0-4EAF-BC00-6129DD1B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FA2-2346-4805-927B-8524E9D2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6CE-2A87-4E49-8B7D-9C2D3310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FB8-6CAB-4873-88F6-7B8AD219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493-629A-4931-B016-6D872844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6C0-957D-4DA8-9BBD-085CD45F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2AC-4423-4D38-B0AE-A0BF759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BCB-1EB8-43D0-9660-390B8035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35B-63B8-4A54-B1E7-3B3E758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B6E-FB87-4BA9-B2AB-CC0F89B9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146-2AA8-437B-9DE0-CA7607F7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01BD-A507-44B5-BE5B-7B5F9F723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3"/>
          <p:cNvSpPr/>
          <p:nvPr/>
        </p:nvSpPr>
        <p:spPr>
          <a:xfrm flipH="1">
            <a:off x="5103360" y="382680"/>
            <a:ext cx="3240" cy="3886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8:51:32Z</dcterms:created>
  <dc:creator>PorterfP</dc:creator>
  <dc:description/>
  <dc:language>en-US</dc:language>
  <cp:lastModifiedBy>PorterfP</cp:lastModifiedBy>
  <dcterms:modified xsi:type="dcterms:W3CDTF">2008-08-04T21:01:28Z</dcterms:modified>
  <cp:revision>2</cp:revision>
  <dc:subject/>
  <dc:title>Slide 1</dc:title>
</cp:coreProperties>
</file>