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535-464E-4256-8504-28C7D80B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78D-EEFA-4EA0-9CFD-B8BC1CA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C40-4BEC-4DE3-8762-CB725EB8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2EC-CCF4-435F-B77D-9282E46A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D6E-91DC-456E-B2FE-DA619A36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ADC-711E-4C6B-8452-96FE81D9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006-057C-4A28-ABCB-B57A418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F6C-5554-46D2-AA67-AEE9B36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DEA-7F55-4BC4-9FEF-50D9E4E8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B52-50C0-49B9-BE9A-4CF3D55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E40-40DD-4461-A647-7DC55A5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802-F070-4241-ADFF-929F85C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3CF-6F3B-4DC3-B25E-CFE17572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1409760"/>
            <a:ext cx="4771800" cy="3314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6760" y="380160"/>
            <a:ext cx="62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ven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06000" y="522540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ven operations will be condu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 nm of the center of the run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6760" y="380160"/>
            <a:ext cx="62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ven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00640" cy="34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05080" y="545400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ven operations will be conducted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rsely populated areas and far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18:27Z</dcterms:created>
  <dc:creator>Rick Ryan</dc:creator>
  <dc:description/>
  <dc:language>en-US</dc:language>
  <cp:lastModifiedBy>Rick Ryan</cp:lastModifiedBy>
  <dcterms:modified xsi:type="dcterms:W3CDTF">2008-01-09T16:09:20Z</dcterms:modified>
  <cp:revision>4</cp:revision>
  <dc:subject/>
  <dc:title>Slide 1</dc:title>
</cp:coreProperties>
</file>