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52C-667B-444A-BE77-E685CFD4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670-C0AA-45E6-B040-FC16CADE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7CD-FFD7-4A65-B4E7-61C38F9C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62A-BB47-492F-8CD3-B78CE6E2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637-0867-4F29-AAF9-B6163EB5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DA3-B93F-4F51-9E1C-71C01949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284-C016-4F0F-84A6-F0670357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972-AB7A-43DD-B141-0521669A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4CD-14AC-45BD-8EA9-CB39EA29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26D-5D90-4722-893A-BE9A8A25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C75-4C3B-4DC5-81C4-B9F48770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282-A72C-4FF8-9098-49B6CE7F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A217-F6FB-476A-98AE-589FA15E3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62520" y="1143000"/>
            <a:ext cx="177840" cy="6343560"/>
          </a:xfrm>
          <a:custGeom>
            <a:avLst/>
            <a:gdLst/>
            <a:ahLst/>
            <a:rect l="l" t="t" r="r" b="b"/>
            <a:pathLst>
              <a:path w="128" h="3904">
                <a:moveTo>
                  <a:pt x="0" y="0"/>
                </a:moveTo>
                <a:lnTo>
                  <a:pt x="128" y="3904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6400" y="7162920"/>
            <a:ext cx="157356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7 53’ 00”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7 00’ 00”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67800" y="990720"/>
            <a:ext cx="157356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9 06’ 00”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7 00’ 00”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267080"/>
            <a:ext cx="609480" cy="152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5000" y="4038480"/>
            <a:ext cx="1573560" cy="6426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8 30’ 00”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7 00’ 00”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4120" y="1066680"/>
            <a:ext cx="141228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VA0420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6920" y="4191120"/>
            <a:ext cx="141228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VA0800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080" y="7315200"/>
            <a:ext cx="141228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VA1150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920" y="3505320"/>
            <a:ext cx="2265480" cy="45972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t Link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8862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7543800"/>
            <a:ext cx="609480" cy="1522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1066680"/>
            <a:ext cx="609480" cy="152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600" y="5257800"/>
            <a:ext cx="3692160" cy="825480"/>
          </a:xfrm>
          <a:prstGeom prst="rect">
            <a:avLst/>
          </a:prstGeom>
          <a:solidFill>
            <a:srgbClr val="ffffff">
              <a:alpha val="7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d Enroute 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FL190 and FL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29080" y="8777160"/>
            <a:ext cx="1508040" cy="3682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achmen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19:41Z</dcterms:created>
  <dc:creator>Valued Gateway Client</dc:creator>
  <dc:description/>
  <dc:language>en-US</dc:language>
  <cp:lastModifiedBy>Beed</cp:lastModifiedBy>
  <dcterms:modified xsi:type="dcterms:W3CDTF">2006-01-23T17:45:49Z</dcterms:modified>
  <cp:revision>9</cp:revision>
  <dc:subject/>
  <dc:title>PowerPoint Presentation</dc:title>
</cp:coreProperties>
</file>