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1C20-5AAD-48D1-B053-AC9A86BB6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7BE9-C995-4A10-9C7A-76BCBC89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508B-556E-4B38-B5D5-2FD164884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21A5-4262-49C1-9282-71FD0800B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3DCD-65D2-4B8F-BD6E-9189C61C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2D37-9069-4F32-8752-0A6EF8B0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467B-EC85-4D7E-8971-DF3B7393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2FD3-29EB-4338-8E32-E509C756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E127-198B-4C28-86AC-0174C20A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5BF4-7CAB-412E-A6E2-A143E787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E8DD-1FCC-4C04-B9A6-EAFE19EE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AF52-1210-4AFA-A1D8-AB9E3908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D476-6EDB-426D-9353-46B9ABD5F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-24146" t="-19190" r="-24146" b="-19190"/>
          <a:stretch/>
        </p:blipFill>
        <p:spPr>
          <a:xfrm>
            <a:off x="-2362320" y="-1754280"/>
            <a:ext cx="11658600" cy="12652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76560" y="3903840"/>
            <a:ext cx="276120" cy="1658880"/>
          </a:xfrm>
          <a:custGeom>
            <a:avLst/>
            <a:gdLst/>
            <a:ahLst/>
            <a:rect l="l" t="t" r="r" b="b"/>
            <a:pathLst>
              <a:path w="174" h="1045">
                <a:moveTo>
                  <a:pt x="174" y="1045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00400" y="4419720"/>
            <a:ext cx="158760" cy="1119240"/>
          </a:xfrm>
          <a:custGeom>
            <a:avLst/>
            <a:gdLst/>
            <a:ahLst/>
            <a:rect l="l" t="t" r="r" b="b"/>
            <a:pathLst>
              <a:path w="111" h="620">
                <a:moveTo>
                  <a:pt x="111" y="620"/>
                </a:moveTo>
                <a:lnTo>
                  <a:pt x="0" y="0"/>
                </a:lnTo>
              </a:path>
            </a:pathLst>
          </a:custGeom>
          <a:noFill/>
          <a:ln w="6660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6248520"/>
            <a:ext cx="4114800" cy="7038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Red Lines Depict the Route Back to Restricted Air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9640" y="2514600"/>
            <a:ext cx="1909080" cy="642600"/>
          </a:xfrm>
          <a:prstGeom prst="rect">
            <a:avLst/>
          </a:prstGeom>
          <a:solidFill>
            <a:srgbClr val="ffffff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-4808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263920" y="3962520"/>
            <a:ext cx="203544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-4806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8260400">
            <a:off x="2710800" y="5365800"/>
            <a:ext cx="882360" cy="360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4:41:43Z</dcterms:created>
  <dc:creator>HP Authorized Customer</dc:creator>
  <dc:description/>
  <dc:language>en-US</dc:language>
  <cp:lastModifiedBy>Beed</cp:lastModifiedBy>
  <dcterms:modified xsi:type="dcterms:W3CDTF">2006-03-08T02:30:53Z</dcterms:modified>
  <cp:revision>7</cp:revision>
  <dc:subject/>
  <dc:title>Slide 1</dc:title>
</cp:coreProperties>
</file>