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4823A-9B61-41B3-8878-98A50CB87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66C78-98DA-4710-A382-C0F7E5CE6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13A46-23FF-40F4-B443-F3CE4C126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98522-ABF1-42D6-A18E-8CB55ADBC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42256-4E38-4FE8-A470-F2BCB3BA3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FA9CB-F2FC-4CF9-BD90-A5CAD2A7B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4255E-7563-4865-A8DF-4D3201D92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D2F3C-38B1-4025-B712-7EFBDD1E9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D44B8-4C8A-4FA5-BA63-A03FEA89A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FD9B0-2A06-4134-80C0-182D5CAC2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C80C6-2B58-498E-90CF-345333E28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CB1F1-C086-40B8-861C-E3CE7C5B4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C560F-ACEC-4F61-8192-398163BD63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8T21:00:46Z</dcterms:created>
  <dc:creator>PorterfP</dc:creator>
  <dc:description/>
  <dc:language>en-US</dc:language>
  <cp:lastModifiedBy>PorterfP</cp:lastModifiedBy>
  <dcterms:modified xsi:type="dcterms:W3CDTF">2008-07-29T14:30:49Z</dcterms:modified>
  <cp:revision>2</cp:revision>
  <dc:subject/>
  <dc:title>Slide 1</dc:title>
</cp:coreProperties>
</file>