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B46-CA89-4C9B-A79D-50DC2D3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A0E-629D-4CD3-99CD-FCE218EB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053-21A6-45B4-9F9F-8AA269C9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8A4-92E7-4532-AA9E-2686D8DD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D2E-A8B4-4B56-A176-36B91281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3CC-17FE-4765-B5A9-4EE8B7A8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512-7F68-4AB2-93D7-4FE50DCE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F7E-AC53-4C23-810A-6388EDD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A90-9A25-4F5E-98BA-EFF693E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14E-88FB-4188-BC9A-57285AC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584-B4A8-4977-8EDA-338157F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C61-3BCF-4BEE-ADEC-615F813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0858-FC57-4D25-A6FF-A7C278234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8:51:32Z</dcterms:created>
  <dc:creator>PorterfP</dc:creator>
  <dc:description/>
  <dc:language>en-US</dc:language>
  <cp:lastModifiedBy>PorterfP</cp:lastModifiedBy>
  <dcterms:modified xsi:type="dcterms:W3CDTF">2008-08-01T18:52:36Z</dcterms:modified>
  <cp:revision>1</cp:revision>
  <dc:subject/>
  <dc:title>Slide 1</dc:title>
</cp:coreProperties>
</file>