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22B-95BA-47E1-A3D4-71F7760C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763-D3BE-4AA5-B5C7-AEEDE1F1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D9B-FDCE-458A-ABBD-B95E42EE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E5F-1C0D-420C-9EE1-E9710ED2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7C7-92BE-4C78-97E7-B5D7ABBC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201-470B-4DA7-9D55-631BCC28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417-2C3D-4003-98B6-E35351C4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A03-2DB3-440E-8717-5BED2AE0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F03-D58A-4127-98BB-E85AAF93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A30-3E52-43CC-B7E5-3E0B79A9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525-7E04-414E-89BB-6FE0BF03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123-FF0A-4285-8E8A-F0A940DF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1213-763B-4A12-B923-B37017726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73152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6553080"/>
            <a:ext cx="7621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124160"/>
            <a:ext cx="966960" cy="2962440"/>
          </a:xfrm>
          <a:custGeom>
            <a:avLst/>
            <a:gdLst/>
            <a:ahLst/>
            <a:rect l="l" t="t" r="r" b="b"/>
            <a:pathLst>
              <a:path w="609" h="1866">
                <a:moveTo>
                  <a:pt x="0" y="1866"/>
                </a:moveTo>
                <a:lnTo>
                  <a:pt x="609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676680"/>
            <a:ext cx="125280" cy="438120"/>
          </a:xfrm>
          <a:custGeom>
            <a:avLst/>
            <a:gdLst/>
            <a:ahLst/>
            <a:rect l="l" t="t" r="r" b="b"/>
            <a:pathLst>
              <a:path w="79" h="276">
                <a:moveTo>
                  <a:pt x="0" y="276"/>
                </a:moveTo>
                <a:lnTo>
                  <a:pt x="79" y="0"/>
                </a:lnTo>
              </a:path>
            </a:pathLst>
          </a:custGeom>
          <a:noFill/>
          <a:ln w="66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7315200"/>
            <a:ext cx="4647960" cy="642600"/>
          </a:xfrm>
          <a:prstGeom prst="rect">
            <a:avLst/>
          </a:prstGeom>
          <a:solidFill>
            <a:srgbClr val="ffffff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 Line Depicts Route In Class E Airspace To/From R-2515 with A Chas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5124600"/>
            <a:ext cx="12600" cy="1212840"/>
          </a:xfrm>
          <a:custGeom>
            <a:avLst/>
            <a:gdLst/>
            <a:ahLst/>
            <a:rect l="l" t="t" r="r" b="b"/>
            <a:pathLst>
              <a:path w="8" h="764">
                <a:moveTo>
                  <a:pt x="8" y="76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8120" y="2362320"/>
            <a:ext cx="2719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-2508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5:16:40Z</dcterms:created>
  <dc:creator>HP Authorized Customer</dc:creator>
  <dc:description/>
  <dc:language>en-US</dc:language>
  <cp:lastModifiedBy>MillerTL</cp:lastModifiedBy>
  <dcterms:modified xsi:type="dcterms:W3CDTF">2008-04-24T15:20:00Z</dcterms:modified>
  <cp:revision>7</cp:revision>
  <dc:subject/>
  <dc:title>Slide 1</dc:title>
</cp:coreProperties>
</file>