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144-8682-41BF-B2F8-763DFA3C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6BF-A969-41BB-89C0-3350EB19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807-2AEF-4BB7-B4BA-9D3BC02E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B62-5F92-46E1-8B6E-703BEDA8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48F-8F35-40E4-9232-4D37AB68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6FD-BC15-4097-BC56-205D4760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25E-EA17-4799-B565-37AF28B4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685-8708-413F-9B89-316E4912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187-84EB-4055-9631-8C3E67C4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C63-8CDF-405D-B2C1-9D99DA9A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840-70E3-4448-A2A8-7D104955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52E-2AA0-4B5A-ABD8-23A78D99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070A-8ECB-47A1-AA3A-86B591045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5440" cy="5857920"/>
          </a:xfrm>
          <a:prstGeom prst="rect">
            <a:avLst/>
          </a:prstGeom>
          <a:ln w="0">
            <a:noFill/>
          </a:ln>
        </p:spPr>
      </p:pic>
      <p:cxnSp>
        <p:nvCxnSpPr>
          <p:cNvPr id="42" name="Straight Arrow Connector 5"/>
          <p:cNvCxnSpPr>
            <a:stCxn id="43" idx="2"/>
          </p:cNvCxnSpPr>
          <p:nvPr/>
        </p:nvCxnSpPr>
        <p:spPr>
          <a:xfrm flipH="1">
            <a:off x="3123360" y="2090520"/>
            <a:ext cx="1080" cy="103356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9"/>
          <p:cNvSpPr/>
          <p:nvPr/>
        </p:nvSpPr>
        <p:spPr>
          <a:xfrm>
            <a:off x="2286000" y="1447920"/>
            <a:ext cx="1676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ridor 7300’ B 8300’ M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3124080" y="4191120"/>
            <a:ext cx="1828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D entry/ex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34° 24' 22.02"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 103° 26' 23.1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838080" y="4191120"/>
            <a:ext cx="19814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-5104A entry/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34° 24' 31.80"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 103° 40' 00.90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13"/>
          <p:cNvCxnSpPr/>
          <p:nvPr/>
        </p:nvCxnSpPr>
        <p:spPr>
          <a:xfrm flipH="1" flipV="1">
            <a:off x="1370880" y="3351960"/>
            <a:ext cx="686520" cy="83916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7" name="Straight Arrow Connector 14"/>
          <p:cNvCxnSpPr/>
          <p:nvPr/>
        </p:nvCxnSpPr>
        <p:spPr>
          <a:xfrm flipV="1">
            <a:off x="4342320" y="3428280"/>
            <a:ext cx="686520" cy="76284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16"/>
          <p:cNvSpPr/>
          <p:nvPr/>
        </p:nvSpPr>
        <p:spPr>
          <a:xfrm>
            <a:off x="4952880" y="137160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st holding area 6800’ B 8300’ M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228600" y="144792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t holding area 7300’ B 8300’ M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9"/>
          <p:cNvCxnSpPr/>
          <p:nvPr/>
        </p:nvCxnSpPr>
        <p:spPr>
          <a:xfrm flipH="1">
            <a:off x="5790960" y="2286000"/>
            <a:ext cx="2160" cy="103104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" name="Straight Arrow Connector 20"/>
          <p:cNvCxnSpPr/>
          <p:nvPr/>
        </p:nvCxnSpPr>
        <p:spPr>
          <a:xfrm flipH="1">
            <a:off x="761760" y="2440080"/>
            <a:ext cx="2160" cy="80064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21:01:09Z</dcterms:created>
  <dc:creator>NickelsS</dc:creator>
  <dc:description/>
  <dc:language>en-US</dc:language>
  <cp:lastModifiedBy>NickelsS</cp:lastModifiedBy>
  <dcterms:modified xsi:type="dcterms:W3CDTF">2008-11-24T21:09:52Z</dcterms:modified>
  <cp:revision>2</cp:revision>
  <dc:subject/>
  <dc:title>Slide 1</dc:title>
</cp:coreProperties>
</file>