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7F8-B568-4937-932D-61534732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25B-AF80-49C9-A10F-451E6B50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0254-B315-4662-BD72-4B699541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502-1744-426D-9710-635E9480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41AC-A8C0-4745-8F06-A3AC2357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98CB-372B-4942-92FB-233F3738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48E7-3BD2-4C85-B075-8EA775AE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0AE-D993-452D-BBE7-C2E43E0C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070-C7CB-4911-9CB3-E4A5E49F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833-9DDF-4DBE-8A3D-F91D644E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05A-8E4A-4549-8506-AB180947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3E45-59B0-4425-B8F7-20494FF6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8AE3-527D-4DE3-BA9B-01744C1CB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85800" y="-857160"/>
            <a:ext cx="10972800" cy="8229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43200" y="2819520"/>
            <a:ext cx="609480" cy="99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1880" y="2971800"/>
            <a:ext cx="457200" cy="685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0" y="3768840"/>
            <a:ext cx="1995480" cy="2784240"/>
          </a:xfrm>
          <a:custGeom>
            <a:avLst/>
            <a:gdLst/>
            <a:ahLst/>
            <a:rect l="l" t="t" r="r" b="b"/>
            <a:pathLst>
              <a:path w="1257" h="1754">
                <a:moveTo>
                  <a:pt x="0" y="0"/>
                </a:moveTo>
                <a:lnTo>
                  <a:pt x="1257" y="1754"/>
                </a:lnTo>
              </a:path>
            </a:pathLst>
          </a:custGeom>
          <a:noFill/>
          <a:ln w="76320">
            <a:solidFill>
              <a:srgbClr val="66ff6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3276600">
            <a:off x="3405240" y="4989240"/>
            <a:ext cx="676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38480" y="1433520"/>
            <a:ext cx="2415960" cy="2819520"/>
          </a:xfrm>
          <a:custGeom>
            <a:avLst/>
            <a:gdLst/>
            <a:ahLst/>
            <a:rect l="l" t="t" r="r" b="b"/>
            <a:pathLst>
              <a:path w="1522" h="1776">
                <a:moveTo>
                  <a:pt x="626" y="1381"/>
                </a:moveTo>
                <a:lnTo>
                  <a:pt x="834" y="1695"/>
                </a:lnTo>
                <a:lnTo>
                  <a:pt x="873" y="1758"/>
                </a:lnTo>
                <a:lnTo>
                  <a:pt x="939" y="1776"/>
                </a:lnTo>
                <a:lnTo>
                  <a:pt x="996" y="1743"/>
                </a:lnTo>
                <a:lnTo>
                  <a:pt x="1470" y="1461"/>
                </a:lnTo>
                <a:lnTo>
                  <a:pt x="1522" y="1421"/>
                </a:lnTo>
                <a:lnTo>
                  <a:pt x="1521" y="1377"/>
                </a:lnTo>
                <a:lnTo>
                  <a:pt x="1498" y="1337"/>
                </a:lnTo>
                <a:lnTo>
                  <a:pt x="621" y="33"/>
                </a:lnTo>
                <a:lnTo>
                  <a:pt x="546" y="0"/>
                </a:lnTo>
                <a:lnTo>
                  <a:pt x="492" y="36"/>
                </a:lnTo>
                <a:lnTo>
                  <a:pt x="30" y="324"/>
                </a:lnTo>
                <a:lnTo>
                  <a:pt x="0" y="372"/>
                </a:lnTo>
                <a:lnTo>
                  <a:pt x="18" y="438"/>
                </a:lnTo>
                <a:lnTo>
                  <a:pt x="75" y="528"/>
                </a:lnTo>
                <a:lnTo>
                  <a:pt x="318" y="873"/>
                </a:lnTo>
              </a:path>
            </a:pathLst>
          </a:cu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3614760"/>
            <a:ext cx="85680" cy="42840"/>
          </a:xfrm>
          <a:custGeom>
            <a:avLst/>
            <a:gdLst/>
            <a:ahLst/>
            <a:rect l="l" t="t" r="r" b="b"/>
            <a:pathLst>
              <a:path w="54" h="27">
                <a:moveTo>
                  <a:pt x="0" y="27"/>
                </a:moveTo>
                <a:lnTo>
                  <a:pt x="24" y="15"/>
                </a:lnTo>
                <a:lnTo>
                  <a:pt x="54" y="0"/>
                </a:lnTo>
              </a:path>
            </a:pathLst>
          </a:custGeom>
          <a:noFill/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3962520"/>
            <a:ext cx="16765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WY 31 Displaced 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666880" y="3657600"/>
            <a:ext cx="609840" cy="457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3:13:57Z</dcterms:created>
  <dc:creator>karl.scribner</dc:creator>
  <dc:description/>
  <dc:language>en-US</dc:language>
  <cp:lastModifiedBy>Beed</cp:lastModifiedBy>
  <dcterms:modified xsi:type="dcterms:W3CDTF">2006-03-06T18:39:35Z</dcterms:modified>
  <cp:revision>3</cp:revision>
  <dc:subject/>
  <dc:title>No Slide Title</dc:title>
</cp:coreProperties>
</file>