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D90-4B11-42BA-9957-AEA1BC6B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003-EF66-4260-95B4-95131C6F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6A2-0B53-4FD1-BCCB-49833E05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4BC-6D53-44B5-A9F7-044F72AA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0FC-EDD3-4A83-BDDD-FFEE2FB1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93A-CD0F-4509-9D54-821AC73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721-7852-45B2-8697-F3B29B38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129-5064-4F27-AD9E-92824062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202-4C2F-4CFB-A018-3C71AE1D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32A-462A-4F40-A750-DE092019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B8A-CD4E-4B28-907E-EFBEA57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932-DBF2-4354-9C55-67206987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5D55-716A-4D96-970C-76B1D8F5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36680" y="-665280"/>
            <a:ext cx="7732800" cy="1047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16080" y="-304920"/>
            <a:ext cx="4678560" cy="4050000"/>
          </a:xfrm>
          <a:custGeom>
            <a:avLst/>
            <a:gdLst/>
            <a:ahLst/>
            <a:rect l="l" t="t" r="r" b="b"/>
            <a:pathLst>
              <a:path w="2947" h="2551">
                <a:moveTo>
                  <a:pt x="2947" y="306"/>
                </a:moveTo>
                <a:lnTo>
                  <a:pt x="2695" y="240"/>
                </a:lnTo>
                <a:lnTo>
                  <a:pt x="2599" y="48"/>
                </a:lnTo>
                <a:lnTo>
                  <a:pt x="2023" y="0"/>
                </a:lnTo>
                <a:lnTo>
                  <a:pt x="1159" y="528"/>
                </a:lnTo>
                <a:lnTo>
                  <a:pt x="439" y="1584"/>
                </a:lnTo>
                <a:lnTo>
                  <a:pt x="0" y="2009"/>
                </a:lnTo>
                <a:lnTo>
                  <a:pt x="188" y="2551"/>
                </a:lnTo>
              </a:path>
            </a:pathLst>
          </a:custGeom>
          <a:noFill/>
          <a:ln w="63360">
            <a:solidFill>
              <a:srgbClr val="cc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733920"/>
            <a:ext cx="6216480" cy="5340240"/>
          </a:xfrm>
          <a:custGeom>
            <a:avLst/>
            <a:gdLst/>
            <a:ahLst/>
            <a:rect l="l" t="t" r="r" b="b"/>
            <a:pathLst>
              <a:path w="3916" h="3364">
                <a:moveTo>
                  <a:pt x="0" y="0"/>
                </a:moveTo>
                <a:lnTo>
                  <a:pt x="1218" y="417"/>
                </a:lnTo>
                <a:lnTo>
                  <a:pt x="3620" y="1080"/>
                </a:lnTo>
                <a:lnTo>
                  <a:pt x="3444" y="2080"/>
                </a:lnTo>
                <a:lnTo>
                  <a:pt x="3476" y="2300"/>
                </a:lnTo>
                <a:lnTo>
                  <a:pt x="3507" y="3108"/>
                </a:lnTo>
                <a:lnTo>
                  <a:pt x="3916" y="3364"/>
                </a:lnTo>
              </a:path>
            </a:pathLst>
          </a:custGeom>
          <a:noFill/>
          <a:ln w="63360">
            <a:solidFill>
              <a:srgbClr val="ff66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87480" y="3798720"/>
            <a:ext cx="2221200" cy="1611360"/>
          </a:xfrm>
          <a:custGeom>
            <a:avLst/>
            <a:gdLst/>
            <a:ahLst/>
            <a:rect l="l" t="t" r="r" b="b"/>
            <a:pathLst>
              <a:path w="1399" h="1015">
                <a:moveTo>
                  <a:pt x="0" y="0"/>
                </a:moveTo>
                <a:lnTo>
                  <a:pt x="1273" y="443"/>
                </a:lnTo>
                <a:lnTo>
                  <a:pt x="1399" y="775"/>
                </a:lnTo>
                <a:lnTo>
                  <a:pt x="1399" y="1015"/>
                </a:lnTo>
              </a:path>
            </a:pathLst>
          </a:custGeom>
          <a:noFill/>
          <a:ln w="63360">
            <a:solidFill>
              <a:srgbClr val="008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90320" y="968400"/>
            <a:ext cx="263592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ark Red Line dep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oute to/from R-25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3200" y="3481560"/>
            <a:ext cx="249264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reen Line dep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oute to/from R-2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800" y="4319640"/>
            <a:ext cx="249264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Orange Line dep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route to/from R-23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9:42:07Z</dcterms:created>
  <dc:creator>HP Authorized Customer</dc:creator>
  <dc:description/>
  <dc:language>en-US</dc:language>
  <cp:lastModifiedBy>MillerTL</cp:lastModifiedBy>
  <dcterms:modified xsi:type="dcterms:W3CDTF">2008-04-24T15:20:42Z</dcterms:modified>
  <cp:revision>5</cp:revision>
  <dc:subject/>
  <dc:title>Slide 1</dc:title>
</cp:coreProperties>
</file>