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1D16-0636-4726-B49A-56FF9E30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AC89-7459-4DA2-B9EF-ABD6EC1C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AB85-1D07-4094-AE34-309D27A3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905-58E6-46B7-970A-72379CB1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3B2-352C-4666-A539-CD23026C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E1BE-47B1-40E5-ACCA-F80F50C9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ADB1-3707-449D-9A8C-C8300DC3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5FBD-8ACF-4365-A619-B6BD54B6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04D9-B8C6-480D-9D91-04F54FB8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9D9-BF12-408A-B447-AE9ADA01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8ABA-44F2-4563-87E9-6A67D769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FEDB-35A5-4B78-850B-277D3593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710E-BD59-47FC-9B3C-314655522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960" y="1066680"/>
            <a:ext cx="6972480" cy="451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24080" y="1828800"/>
            <a:ext cx="127080" cy="33526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3276720" y="4838760"/>
            <a:ext cx="1003320" cy="3427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80040" y="3352680"/>
            <a:ext cx="0" cy="14860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3936600" y="2323800"/>
            <a:ext cx="343080" cy="10285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7040" y="1866960"/>
            <a:ext cx="799920" cy="4572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21:30:07Z</dcterms:created>
  <dc:creator>cherlynn jones</dc:creator>
  <dc:description/>
  <dc:language>en-US</dc:language>
  <cp:lastModifiedBy>GolliverJ</cp:lastModifiedBy>
  <dcterms:modified xsi:type="dcterms:W3CDTF">2008-03-13T20:15:14Z</dcterms:modified>
  <cp:revision>3</cp:revision>
  <dc:subject/>
  <dc:title>Slide 1</dc:title>
</cp:coreProperties>
</file>