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DF9-F372-4088-801A-EDA8E87D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C61-2E4C-4449-BF87-13E356F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4B0-1EBE-4BB0-90F2-2D66D7E8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69A-3E28-411D-84CC-4E011B74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203-C725-43D1-B539-88A864D4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A55-F30E-4DC5-BB57-4FD8DC3A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E6B-35DE-41FB-B7AC-40D696EA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A94-97F0-4930-A427-BEDA38A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8BD-023D-4817-92E2-3B3BB2F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A83-6F6F-41D5-BE36-6F5D3D2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780-5679-403C-90F9-56B8F65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8CE-0CF4-4EC9-8FF4-018E260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F906-5752-4FD5-81D6-AE4A95A1C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104760" y="114480"/>
            <a:ext cx="2028960" cy="232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" name="Text Box 7"/>
          <p:cNvSpPr/>
          <p:nvPr/>
        </p:nvSpPr>
        <p:spPr>
          <a:xfrm>
            <a:off x="0" y="3505320"/>
            <a:ext cx="2987640" cy="22885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ma AE acceptance test operations will take place 0-1200 AGL in Class G Airspace and within overlying Burbank Class E Airspace.  Overlying Class E Airspace begins at 700 feet A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85640" y="295200"/>
            <a:ext cx="8172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232440" y="3636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1114560" y="790560"/>
            <a:ext cx="6914880" cy="5276880"/>
          </a:xfrm>
          <a:prstGeom prst="rect">
            <a:avLst/>
          </a:prstGeom>
          <a:ln w="0">
            <a:noFill/>
          </a:ln>
        </p:spPr>
      </p:pic>
      <p:sp>
        <p:nvSpPr>
          <p:cNvPr id="47" name="Oval 9"/>
          <p:cNvSpPr/>
          <p:nvPr/>
        </p:nvSpPr>
        <p:spPr>
          <a:xfrm rot="20529000">
            <a:off x="3352320" y="1904760"/>
            <a:ext cx="838440" cy="271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5943600" y="16765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50" name="Rectangle 13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4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696120" y="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na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rennan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306160" y="11268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Fligh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00920" cy="501984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5638680" y="3581280"/>
            <a:ext cx="457200" cy="149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 rot="3415200">
            <a:off x="4482720" y="2450880"/>
            <a:ext cx="457200" cy="149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 rot="19999200">
            <a:off x="2936520" y="2141280"/>
            <a:ext cx="457200" cy="1650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221840" y="33210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879440" y="2057400"/>
            <a:ext cx="18295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98760" y="4952880"/>
            <a:ext cx="1829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Field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3962520" y="21337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7010280" y="41911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1371600" y="5334120"/>
            <a:ext cx="1981080" cy="380880"/>
            <a:chOff x="1371600" y="5334120"/>
            <a:chExt cx="1981080" cy="380880"/>
          </a:xfrm>
        </p:grpSpPr>
        <p:sp>
          <p:nvSpPr>
            <p:cNvPr id="65" name="Rectangle 15"/>
            <p:cNvSpPr/>
            <p:nvPr/>
          </p:nvSpPr>
          <p:spPr>
            <a:xfrm>
              <a:off x="1371600" y="5334120"/>
              <a:ext cx="19810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nd Control 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6"/>
            <p:cNvSpPr/>
            <p:nvPr/>
          </p:nvSpPr>
          <p:spPr>
            <a:xfrm>
              <a:off x="1447920" y="5410080"/>
              <a:ext cx="182520" cy="228600"/>
            </a:xfrm>
            <a:custGeom>
              <a:avLst/>
              <a:gdLst>
                <a:gd name="textAreaLeft" fmla="*/ 75240 w 182520"/>
                <a:gd name="textAreaRight" fmla="*/ 107280 w 1825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565600" y="106668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/ 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Managem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pper_Waste"/>
          <p:cNvPicPr/>
          <p:nvPr/>
        </p:nvPicPr>
        <p:blipFill>
          <a:blip r:embed="rId1"/>
          <a:stretch/>
        </p:blipFill>
        <p:spPr>
          <a:xfrm>
            <a:off x="0" y="0"/>
            <a:ext cx="5086440" cy="4314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ower_Waste"/>
          <p:cNvPicPr/>
          <p:nvPr/>
        </p:nvPicPr>
        <p:blipFill>
          <a:blip r:embed="rId2"/>
          <a:stretch/>
        </p:blipFill>
        <p:spPr>
          <a:xfrm>
            <a:off x="4057560" y="3228840"/>
            <a:ext cx="508644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16:10Z</dcterms:created>
  <dc:creator>RyanRA</dc:creator>
  <dc:description/>
  <dc:language>en-US</dc:language>
  <cp:lastModifiedBy>PorterfP</cp:lastModifiedBy>
  <dcterms:modified xsi:type="dcterms:W3CDTF">2008-09-02T17:57:02Z</dcterms:modified>
  <cp:revision>15</cp:revision>
  <dc:subject/>
  <dc:title>Slide 1</dc:title>
</cp:coreProperties>
</file>