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550-1C8F-4D39-BA34-DD2EC8EA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373-4C78-4975-9BC5-0140DD6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E49-74ED-4177-807E-C41BB810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37E-4A64-4B76-9729-D21D505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0E2-D0AD-4497-87F6-3C0BA21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A16-7E31-4472-A0E1-E66F833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0A7-0767-4266-B223-9F51FA74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3A-BBA2-4F06-ABE8-1CE98359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B9C-7F56-48AF-9BCC-D36A394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E76-1070-4CB1-9ECC-1807332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0E4-7212-48ED-898F-1A2FB5E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51D-5F21-4CCE-98BA-A75FCB7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FE9-C8D8-4A53-A909-AA8AAC7F0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21:00:46Z</dcterms:created>
  <dc:creator>PorterfP</dc:creator>
  <dc:description/>
  <dc:language>en-US</dc:language>
  <cp:lastModifiedBy>PorterfP</cp:lastModifiedBy>
  <dcterms:modified xsi:type="dcterms:W3CDTF">2008-07-29T14:29:48Z</dcterms:modified>
  <cp:revision>1</cp:revision>
  <dc:subject/>
  <dc:title>Slide 1</dc:title>
</cp:coreProperties>
</file>