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0FF2-A5D9-40CD-9740-1A6FCDFEA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C5C3-484B-4741-A378-966AB4306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5DE4-081F-435C-A703-37B329624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AACD-677D-4860-8045-BCEB2E25D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4F8A-A900-47E4-B79E-B78F7E597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6B5-0860-4772-87E5-8D46DDBC5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C38F-3A01-46E0-ADB8-12262CFBA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483E-8AA5-4F5C-86D7-8DBD8FE5B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4F65-DB1B-4BCF-8265-5700DBEF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0C23-24DB-4D8B-A7CE-44F43CDE2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E8CC-2035-4C95-BD03-5C022BE5C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29BE-6664-455D-BAB4-BD01E7593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3800" y="47520"/>
            <a:ext cx="2895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5288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DDFB-61B3-4016-91AB-D55CDF6052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59592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98440" y="6624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2760" y="6613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tion 7 (B249BWF1 Supple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1CB6-FDD6-4238-A34E-AE6E754C5F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4222" r="0" b="2480"/>
          <a:stretch/>
        </p:blipFill>
        <p:spPr>
          <a:xfrm>
            <a:off x="11160" y="307800"/>
            <a:ext cx="913284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5DF4-D240-4213-B469-1A18FB0996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093" r="0" b="239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818C-B8DD-44C2-B1FC-0C682DF288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3473" r="0" b="28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6E5A-1F7D-482D-A181-C4A940CFCA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403" r="0" b="26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C098-0397-4F52-9D35-6A3A8DEE3B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518" r="0" b="234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9A3D-BD7D-4515-BC14-BF6D909B8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3580" r="0" b="255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D338-5D41-4355-9F0F-0D8588478F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564984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7B2A-BE72-4306-8937-675668D6D5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640" r="0" b="2510"/>
          <a:stretch/>
        </p:blipFill>
        <p:spPr>
          <a:xfrm>
            <a:off x="0" y="307800"/>
            <a:ext cx="9144000" cy="616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B1B6-4C2E-4407-90FD-5046892FE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222" r="0" b="2610"/>
          <a:stretch/>
        </p:blipFill>
        <p:spPr>
          <a:xfrm>
            <a:off x="23760" y="307800"/>
            <a:ext cx="9120240" cy="631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BE2F-A4FB-4EBC-8336-C57C7B0CD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241" r="0" b="204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7F43-9ABC-40C7-9A8B-3C2E4FAF2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3964" r="0" b="37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2F51-436C-48B4-8516-C7478F50F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3292" r="0" b="2606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E07A-FF8B-46BF-B3B0-5C89A00FE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03:31Z</dcterms:created>
  <dc:creator>harrije2</dc:creator>
  <dc:description/>
  <dc:language>en-US</dc:language>
  <cp:lastModifiedBy>michael.masucci</cp:lastModifiedBy>
  <dcterms:modified xsi:type="dcterms:W3CDTF">2007-10-23T23:33:28Z</dcterms:modified>
  <cp:revision>114</cp:revision>
  <dc:subject/>
  <dc:title>Slide 1</dc:title>
</cp:coreProperties>
</file>