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C6C-436B-4305-A931-FCFEEBE0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8F2-E7E7-4728-AE0C-2D291375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F90-6697-4A30-A648-B269AA9E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8BE-4CA1-415B-AC7F-B5909367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174-BAC6-4B74-9576-54922620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1D2-3696-4B4F-B277-7845DDE5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D43-FFAE-4334-B022-D83B12F2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25F-D559-4094-95B3-B6500056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8F1-3747-4950-9485-FE536C8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B15-FE23-4D78-892D-78FC5B23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30B-2296-46FC-833E-4E78E415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341-31A2-4DF0-9C23-8021EF30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8477-755D-478A-A704-2978513E9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4572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371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r with Data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4040" y="1905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CS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6000" y="220968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deo 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73720" y="2971800"/>
            <a:ext cx="533520" cy="2057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590920"/>
            <a:ext cx="304920" cy="1752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9640" y="2273400"/>
            <a:ext cx="533520" cy="2146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7560" y="2590920"/>
            <a:ext cx="1371600" cy="2514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"/>
            <a:ext cx="54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TER SUAS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.herbst1</cp:lastModifiedBy>
  <dcterms:modified xsi:type="dcterms:W3CDTF">2007-11-06T14:17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