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D4F-E177-4E06-83EC-F9923891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AB3-D770-48D3-8ECD-94862639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B4E-B8DF-4ECA-9D1D-5BDB37F2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181-CB1D-4BA2-AC8B-312ADE77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4AA-8E65-4F7F-8C80-789DA977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854-8827-415D-AC15-1BCCAC72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B16-B91B-4794-AFBC-7D3F03A8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4E8-E2A6-42DD-928A-DC259524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7A3-1B95-4FFE-9611-58DA4CE8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D86-448C-4FD2-A173-BC6E6214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BDB-688A-4938-83F7-5093D0B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A1F-3064-4F52-8ADF-E715898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9D17D4-4475-4AF0-90C5-E3732478B201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61400" y="2719440"/>
            <a:ext cx="2360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  <a:ea typeface="Times New Roman"/>
              </a:rPr>
              <a:t>Uncooled IR Cam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20598" r="0" b="12197"/>
          <a:stretch/>
        </p:blipFill>
        <p:spPr>
          <a:xfrm>
            <a:off x="3846600" y="6762600"/>
            <a:ext cx="3725640" cy="158940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60200" y="6365880"/>
            <a:ext cx="3726000" cy="221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Key System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Fully autonomou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Dynamic re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A/V Weight: &lt;14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Payload: 1-3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Endurance: ~4hrs </a:t>
            </a: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(payload 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Geo-referenced Ima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00" y="8566200"/>
            <a:ext cx="426888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Altitude     10,000 f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Altitude   200 ft AGL And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us of Action        10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uise Speed             65 K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iter Speed              32 K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g Sp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48 in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71880" y="8566200"/>
            <a:ext cx="388620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/Data 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-Band/UHF (mil sp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ston, 1-cyl, 1.6 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vig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tt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/ 5 V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7480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volt / 35 wat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360" y="1546200"/>
            <a:ext cx="7446960" cy="17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BUSTER SUAV is a fully autonomous, high endurance, man-portable system that provides a robust aerial sensor platform for night/day operations.  Payloads demonstrated to date include uncooled IR cameras (up to 640 x 480), concurrent side and forward looking imagers (operator selectable), HDTV with full resolution downlink,   and an acoustic detection/locat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4800" y="60480"/>
            <a:ext cx="43696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STER SUAV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200" y="952560"/>
            <a:ext cx="713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ensors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you need them,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you need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25880" y="4853160"/>
            <a:ext cx="1538280" cy="12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rcRect l="13043" t="12983" r="10868" b="0"/>
          <a:stretch/>
        </p:blipFill>
        <p:spPr>
          <a:xfrm>
            <a:off x="5838840" y="4849920"/>
            <a:ext cx="1628640" cy="121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52280" y="3430440"/>
            <a:ext cx="4356360" cy="12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Upgrades under investig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Heavy Fuel Eng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Communications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utura Md BT"/>
              <a:buChar char="•"/>
              <a:tabLst>
                <a:tab algn="l" pos="1135080"/>
                <a:tab algn="l" pos="2270160"/>
                <a:tab algn="l" pos="3405240"/>
                <a:tab algn="l" pos="4540320"/>
                <a:tab algn="l" pos="5675400"/>
                <a:tab algn="l" pos="6810480"/>
                <a:tab algn="l" pos="7945560"/>
                <a:tab algn="l" pos="9080640"/>
                <a:tab algn="l" pos="10215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On-the-Move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rcRect l="0" t="15316" r="0" b="0"/>
          <a:stretch/>
        </p:blipFill>
        <p:spPr>
          <a:xfrm>
            <a:off x="5181480" y="3127320"/>
            <a:ext cx="2306880" cy="157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62920" y="609588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DT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19280" y="609588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0x480 UC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4520" y="6095880"/>
            <a:ext cx="10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0 x 480 CC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61040" y="6095880"/>
            <a:ext cx="101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x240 UC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42920" y="4780080"/>
            <a:ext cx="1944720" cy="1361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257560" y="4805280"/>
            <a:ext cx="15811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4:11:34Z</dcterms:created>
  <dc:creator>NVESD</dc:creator>
  <dc:description/>
  <dc:language>en-US</dc:language>
  <cp:lastModifiedBy>frank.herbst1</cp:lastModifiedBy>
  <dcterms:modified xsi:type="dcterms:W3CDTF">2007-02-01T15:44:17Z</dcterms:modified>
  <cp:revision>14</cp:revision>
  <dc:subject/>
  <dc:title>Slide 1</dc:title>
</cp:coreProperties>
</file>